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108D-EA3A-4129-9D65-DA2C9A95C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FDC4-B8E6-47B7-A3B3-E98AE391E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AC1C-053A-4CF3-8C3F-1CA6C6E1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B792-F785-476A-A005-0CFC4AA75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2413-2EF4-4C03-9F4E-110E583E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7B6-51A2-45FE-8D7E-89A7AEBD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08AE-08C9-47D4-9C3B-38E68CC8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D231-3C9D-480F-B775-66DB39976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13BA-FDCF-407B-BDCB-3E923D7C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9B59-5674-4518-9653-62977EEA3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D451-4085-471C-9EC0-D46052E3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35CA-1E76-423E-B628-23576D830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B98F-F871-4449-9B1D-D1E72D6EC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231" t="10202" r="4423" b="4481"/>
          <a:stretch/>
        </p:blipFill>
        <p:spPr>
          <a:xfrm>
            <a:off x="61920" y="838080"/>
            <a:ext cx="4738680" cy="70106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4876920" y="12430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876920" y="46483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876920" y="49500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876920" y="5460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876920" y="59691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3" idx="2"/>
            <a:endCxn id="48" idx="0"/>
          </p:cNvCxnSpPr>
          <p:nvPr/>
        </p:nvCxnSpPr>
        <p:spPr>
          <a:xfrm flipV="1" rot="10800000">
            <a:off x="775800" y="4762440"/>
            <a:ext cx="4101120" cy="209520"/>
          </a:xfrm>
          <a:prstGeom prst="bentConnector4">
            <a:avLst>
              <a:gd name="adj1" fmla="val 47625"/>
              <a:gd name="adj2" fmla="val -8433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576360" y="4971960"/>
            <a:ext cx="39996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069920" y="4975200"/>
            <a:ext cx="116532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63440" y="5199120"/>
            <a:ext cx="35100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"/>
          <p:cNvCxnSpPr>
            <a:stCxn id="44" idx="2"/>
            <a:endCxn id="49" idx="3"/>
          </p:cNvCxnSpPr>
          <p:nvPr/>
        </p:nvCxnSpPr>
        <p:spPr>
          <a:xfrm flipH="1" flipV="1">
            <a:off x="2235240" y="5063400"/>
            <a:ext cx="2642040" cy="14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228600" y="1243080"/>
            <a:ext cx="17161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42" idx="2"/>
            <a:endCxn id="52" idx="3"/>
          </p:cNvCxnSpPr>
          <p:nvPr/>
        </p:nvCxnSpPr>
        <p:spPr>
          <a:xfrm flipH="1" flipV="1">
            <a:off x="1944720" y="1355760"/>
            <a:ext cx="29325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2"/>
            <a:endCxn id="50" idx="2"/>
          </p:cNvCxnSpPr>
          <p:nvPr/>
        </p:nvCxnSpPr>
        <p:spPr>
          <a:xfrm rot="10800000">
            <a:off x="338760" y="5385960"/>
            <a:ext cx="4538520" cy="189360"/>
          </a:xfrm>
          <a:prstGeom prst="bentConnector4">
            <a:avLst>
              <a:gd name="adj1" fmla="val 48119"/>
              <a:gd name="adj2" fmla="val -2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358920" y="5996160"/>
            <a:ext cx="1164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46" idx="2"/>
            <a:endCxn id="55" idx="3"/>
          </p:cNvCxnSpPr>
          <p:nvPr/>
        </p:nvCxnSpPr>
        <p:spPr>
          <a:xfrm flipH="1">
            <a:off x="1523880" y="6083640"/>
            <a:ext cx="3353400" cy="7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"/>
          <p:cNvSpPr/>
          <p:nvPr/>
        </p:nvSpPr>
        <p:spPr>
          <a:xfrm>
            <a:off x="5004000" y="1233360"/>
            <a:ext cx="163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Quick Access Ic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75560" y="4637160"/>
            <a:ext cx="1755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Delete old build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999320" y="4938840"/>
            <a:ext cx="148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Edit the make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989240" y="5451480"/>
            <a:ext cx="156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Build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88520" y="5952960"/>
            <a:ext cx="142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List all mod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rcRect l="2199" t="53302" r="22222" b="36490"/>
          <a:stretch/>
        </p:blipFill>
        <p:spPr>
          <a:xfrm>
            <a:off x="1355760" y="4311720"/>
            <a:ext cx="4146480" cy="52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rcRect l="1387" t="82199" r="2780" b="8003"/>
          <a:stretch/>
        </p:blipFill>
        <p:spPr>
          <a:xfrm>
            <a:off x="800280" y="5715000"/>
            <a:ext cx="5257800" cy="5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1752480" y="472428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ile"/>
          <p:cNvSpPr/>
          <p:nvPr/>
        </p:nvSpPr>
        <p:spPr>
          <a:xfrm>
            <a:off x="76320" y="400068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y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ile"/>
          <p:cNvSpPr/>
          <p:nvPr/>
        </p:nvSpPr>
        <p:spPr>
          <a:xfrm>
            <a:off x="2590920" y="286560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ile"/>
          <p:cNvSpPr/>
          <p:nvPr/>
        </p:nvSpPr>
        <p:spPr>
          <a:xfrm>
            <a:off x="2590920" y="5199120"/>
            <a:ext cx="1828800" cy="11430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erived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.g. NT386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HPPA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"/>
          <p:cNvCxnSpPr>
            <a:stCxn id="166" idx="6"/>
            <a:endCxn id="167" idx="6"/>
          </p:cNvCxnSpPr>
          <p:nvPr/>
        </p:nvCxnSpPr>
        <p:spPr>
          <a:xfrm flipV="1">
            <a:off x="1904760" y="4007880"/>
            <a:ext cx="1600920" cy="56412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65" idx="6"/>
            <a:endCxn id="168" idx="6"/>
          </p:cNvCxnSpPr>
          <p:nvPr/>
        </p:nvCxnSpPr>
        <p:spPr>
          <a:xfrm>
            <a:off x="1904760" y="4800240"/>
            <a:ext cx="1616760" cy="57060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1" name=""/>
          <p:cNvSpPr/>
          <p:nvPr/>
        </p:nvSpPr>
        <p:spPr>
          <a:xfrm>
            <a:off x="172440" y="521100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ckage direc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791880" y="2205000"/>
            <a:ext cx="3078000" cy="49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source subdirectory, “src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Source files and makefile resid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791520" y="6615720"/>
            <a:ext cx="33184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derived sub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The builder generates system-dependent</a:t>
            </a:r>
            <a:br>
              <a:rPr sz="1200"/>
            </a:b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object files in the “derived” direc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2" idx="1"/>
            <a:endCxn id="167" idx="7"/>
          </p:cNvCxnSpPr>
          <p:nvPr/>
        </p:nvCxnSpPr>
        <p:spPr>
          <a:xfrm flipV="1" rot="10800000">
            <a:off x="3520440" y="2451600"/>
            <a:ext cx="523080" cy="5850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3" idx="1"/>
            <a:endCxn id="168" idx="7"/>
          </p:cNvCxnSpPr>
          <p:nvPr/>
        </p:nvCxnSpPr>
        <p:spPr>
          <a:xfrm rot="10800000">
            <a:off x="3504600" y="6341400"/>
            <a:ext cx="538920" cy="622800"/>
          </a:xfrm>
          <a:prstGeom prst="curved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314880" y="380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314880" y="1120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314880" y="18622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14880" y="2603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314880" y="3344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14880" y="40863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14880" y="4827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14880" y="55688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314880" y="631044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314880" y="70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14880" y="77929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14880" y="85345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78760" y="4418280"/>
            <a:ext cx="574200" cy="307440"/>
          </a:xfrm>
          <a:custGeom>
            <a:avLst/>
            <a:gdLst>
              <a:gd name="textAreaLeft" fmla="*/ 0 w 574200"/>
              <a:gd name="textAreaRight" fmla="*/ 574560 w 574200"/>
              <a:gd name="textAreaTop" fmla="*/ 0 h 307440"/>
              <a:gd name="textAreaBottom" fmla="*/ 307800 h 307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509920" y="1828800"/>
            <a:ext cx="1654200" cy="16556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Interfac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i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72428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I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I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3724200"/>
            <a:ext cx="1654200" cy="16560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ello module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Hello.m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6" idx="0"/>
            <a:endCxn id="75" idx="3"/>
          </p:cNvCxnSpPr>
          <p:nvPr/>
        </p:nvCxnSpPr>
        <p:spPr>
          <a:xfrm flipV="1" rot="16200000">
            <a:off x="4343040" y="2496600"/>
            <a:ext cx="1048320" cy="136908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75" idx="1"/>
            <a:endCxn id="77" idx="0"/>
          </p:cNvCxnSpPr>
          <p:nvPr/>
        </p:nvCxnSpPr>
        <p:spPr>
          <a:xfrm flipV="1" rot="10800000">
            <a:off x="1131120" y="2657160"/>
            <a:ext cx="1359720" cy="1048320"/>
          </a:xfrm>
          <a:prstGeom prst="curved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4132080" y="3048120"/>
            <a:ext cx="9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ex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25320" y="3048120"/>
            <a:ext cx="99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Garamond"/>
              </a:rPr>
              <a:t>impor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1499" t="10186" r="4348" b="4628"/>
          <a:stretch/>
        </p:blipFill>
        <p:spPr>
          <a:xfrm>
            <a:off x="228600" y="1295280"/>
            <a:ext cx="4780080" cy="7010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755800" y="20667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5800" y="26319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102280" y="32338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105520" y="57546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755800" y="7951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71720" y="2057400"/>
            <a:ext cx="149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Rescan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28160" y="26208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196960" y="3222720"/>
            <a:ext cx="151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ivate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28280" y="5745240"/>
            <a:ext cx="1424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ublic pack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86040" y="7929720"/>
            <a:ext cx="1995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Find a particular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12840" y="2354400"/>
            <a:ext cx="5508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939960" y="2354400"/>
            <a:ext cx="11887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"/>
          <p:cNvCxnSpPr>
            <a:stCxn id="83" idx="2"/>
            <a:endCxn id="93" idx="0"/>
          </p:cNvCxnSpPr>
          <p:nvPr/>
        </p:nvCxnSpPr>
        <p:spPr>
          <a:xfrm flipV="1" rot="10800000">
            <a:off x="588240" y="2180160"/>
            <a:ext cx="2167560" cy="17388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4" idx="2"/>
            <a:endCxn id="94" idx="2"/>
          </p:cNvCxnSpPr>
          <p:nvPr/>
        </p:nvCxnSpPr>
        <p:spPr>
          <a:xfrm rot="10800000">
            <a:off x="1534320" y="2529720"/>
            <a:ext cx="1221480" cy="21672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800600" y="3048120"/>
            <a:ext cx="228600" cy="609480"/>
          </a:xfrm>
          <a:custGeom>
            <a:avLst/>
            <a:gdLst>
              <a:gd name="textAreaLeft" fmla="*/ 0 w 228600"/>
              <a:gd name="textAreaRight" fmla="*/ 82440 w 228600"/>
              <a:gd name="textAreaTop" fmla="*/ 15840 h 609480"/>
              <a:gd name="textAreaBottom" fmla="*/ 5936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00600" y="3962520"/>
            <a:ext cx="228600" cy="3809880"/>
          </a:xfrm>
          <a:custGeom>
            <a:avLst/>
            <a:gdLst>
              <a:gd name="textAreaLeft" fmla="*/ 0 w 228600"/>
              <a:gd name="textAreaRight" fmla="*/ 8244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8200" y="7978680"/>
            <a:ext cx="1303200" cy="1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"/>
          <p:cNvCxnSpPr>
            <a:stCxn id="87" idx="2"/>
            <a:endCxn id="99" idx="3"/>
          </p:cNvCxnSpPr>
          <p:nvPr/>
        </p:nvCxnSpPr>
        <p:spPr>
          <a:xfrm flipH="1">
            <a:off x="1841040" y="8066160"/>
            <a:ext cx="91512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rcRect l="1499" t="10139" r="4254" b="47935"/>
          <a:stretch/>
        </p:blipFill>
        <p:spPr>
          <a:xfrm>
            <a:off x="762120" y="1295280"/>
            <a:ext cx="4784760" cy="34466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513960" y="2313000"/>
            <a:ext cx="187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reate a new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47920" y="2362320"/>
            <a:ext cx="13032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2" idx="1"/>
            <a:endCxn id="103" idx="3"/>
          </p:cNvCxnSpPr>
          <p:nvPr/>
        </p:nvCxnSpPr>
        <p:spPr>
          <a:xfrm flipH="1">
            <a:off x="2750760" y="2450880"/>
            <a:ext cx="90720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1387" t="17887" r="4167" b="7664"/>
          <a:stretch/>
        </p:blipFill>
        <p:spPr>
          <a:xfrm>
            <a:off x="762120" y="2895480"/>
            <a:ext cx="5181480" cy="38862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2590920" y="444672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98780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114800" y="563868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4473720"/>
            <a:ext cx="39996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806480" y="5013360"/>
            <a:ext cx="11653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1" name=""/>
          <p:cNvCxnSpPr>
            <a:stCxn id="107" idx="2"/>
            <a:endCxn id="110" idx="3"/>
          </p:cNvCxnSpPr>
          <p:nvPr/>
        </p:nvCxnSpPr>
        <p:spPr>
          <a:xfrm flipH="1">
            <a:off x="2971080" y="5101920"/>
            <a:ext cx="114372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2" name=""/>
          <p:cNvSpPr/>
          <p:nvPr/>
        </p:nvSpPr>
        <p:spPr>
          <a:xfrm>
            <a:off x="838080" y="323856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72920" y="4424400"/>
            <a:ext cx="35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Instruct CM3-IDE which package root to 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31440" y="4976640"/>
            <a:ext cx="160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th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2000" y="5614920"/>
            <a:ext cx="174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Assign package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06" idx="2"/>
            <a:endCxn id="109" idx="3"/>
          </p:cNvCxnSpPr>
          <p:nvPr/>
        </p:nvCxnSpPr>
        <p:spPr>
          <a:xfrm flipH="1">
            <a:off x="2075760" y="4560480"/>
            <a:ext cx="5151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3200400" y="5410080"/>
            <a:ext cx="152280" cy="685800"/>
          </a:xfrm>
          <a:custGeom>
            <a:avLst/>
            <a:gdLst>
              <a:gd name="textAreaLeft" fmla="*/ 0 w 152280"/>
              <a:gd name="textAreaRight" fmla="*/ 55080 w 1522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"/>
          <p:cNvCxnSpPr>
            <a:stCxn id="108" idx="2"/>
            <a:endCxn id="117" idx="1"/>
          </p:cNvCxnSpPr>
          <p:nvPr/>
        </p:nvCxnSpPr>
        <p:spPr>
          <a:xfrm flipH="1">
            <a:off x="3351960" y="5752800"/>
            <a:ext cx="76284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429000" y="2752560"/>
            <a:ext cx="228600" cy="228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409560" y="2743200"/>
            <a:ext cx="274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return to start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2"/>
            <a:endCxn id="112" idx="1"/>
          </p:cNvCxnSpPr>
          <p:nvPr/>
        </p:nvCxnSpPr>
        <p:spPr>
          <a:xfrm flipV="1" rot="10800000">
            <a:off x="837360" y="2865960"/>
            <a:ext cx="2591640" cy="486360"/>
          </a:xfrm>
          <a:prstGeom prst="bentConnector3">
            <a:avLst>
              <a:gd name="adj1" fmla="val 1088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122" name="" descr=""/>
          <p:cNvPicPr/>
          <p:nvPr/>
        </p:nvPicPr>
        <p:blipFill>
          <a:blip r:embed="rId2"/>
          <a:srcRect l="15075" t="48025" r="75961" b="48025"/>
          <a:stretch/>
        </p:blipFill>
        <p:spPr>
          <a:xfrm>
            <a:off x="3176640" y="8177040"/>
            <a:ext cx="492120" cy="2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rcRect l="1390" t="26328" r="4228" b="16222"/>
          <a:stretch/>
        </p:blipFill>
        <p:spPr>
          <a:xfrm>
            <a:off x="228600" y="3124080"/>
            <a:ext cx="5178600" cy="20574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3800880" y="4470480"/>
            <a:ext cx="285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Click here to start your text edi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70280" y="4492800"/>
            <a:ext cx="801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4" idx="1"/>
            <a:endCxn id="125" idx="3"/>
          </p:cNvCxnSpPr>
          <p:nvPr/>
        </p:nvCxnSpPr>
        <p:spPr>
          <a:xfrm flipH="1" flipV="1">
            <a:off x="3671640" y="4606560"/>
            <a:ext cx="3801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21120" y="4433040"/>
            <a:ext cx="621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ucida Console"/>
              </a:rPr>
              <a:t>IO.Put(“This is the stuff I want to print to standard output\n.”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232280" y="3809160"/>
            <a:ext cx="48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arameters for this call (if any) go between the parenthe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27800" y="3351960"/>
            <a:ext cx="146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procedure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4720" y="2971080"/>
            <a:ext cx="386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aramond"/>
              </a:rPr>
              <a:t>name of the interface containing the proced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5400000">
            <a:off x="329400" y="4241880"/>
            <a:ext cx="304920" cy="152280"/>
          </a:xfrm>
          <a:custGeom>
            <a:avLst/>
            <a:gdLst>
              <a:gd name="textAreaLeft" fmla="*/ 194760 w 304920"/>
              <a:gd name="textAreaRight" fmla="*/ 305280 w 304920"/>
              <a:gd name="textAreaTop" fmla="*/ 3960 h 152280"/>
              <a:gd name="textAreaBottom" fmla="*/ 148320 h 152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5400000">
            <a:off x="628200" y="4184640"/>
            <a:ext cx="304920" cy="266760"/>
          </a:xfrm>
          <a:custGeom>
            <a:avLst/>
            <a:gdLst>
              <a:gd name="textAreaLeft" fmla="*/ 194760 w 304920"/>
              <a:gd name="textAreaRight" fmla="*/ 305280 w 304920"/>
              <a:gd name="textAreaTop" fmla="*/ 6840 h 266760"/>
              <a:gd name="textAreaBottom" fmla="*/ 259920 h 266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rot="5400000">
            <a:off x="3485880" y="1707840"/>
            <a:ext cx="304920" cy="5219640"/>
          </a:xfrm>
          <a:custGeom>
            <a:avLst/>
            <a:gdLst>
              <a:gd name="textAreaLeft" fmla="*/ 194760 w 304920"/>
              <a:gd name="textAreaRight" fmla="*/ 305280 w 304920"/>
              <a:gd name="textAreaTop" fmla="*/ 136080 h 5219640"/>
              <a:gd name="textAreaBottom" fmla="*/ 5083560 h 521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30" idx="1"/>
            <a:endCxn id="131" idx="1"/>
          </p:cNvCxnSpPr>
          <p:nvPr/>
        </p:nvCxnSpPr>
        <p:spPr>
          <a:xfrm flipV="1" rot="10800000">
            <a:off x="482040" y="3109680"/>
            <a:ext cx="351360" cy="105624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5" name=""/>
          <p:cNvCxnSpPr>
            <a:stCxn id="129" idx="1"/>
            <a:endCxn id="132" idx="1"/>
          </p:cNvCxnSpPr>
          <p:nvPr/>
        </p:nvCxnSpPr>
        <p:spPr>
          <a:xfrm flipV="1" rot="10800000">
            <a:off x="780480" y="3490560"/>
            <a:ext cx="362520" cy="675360"/>
          </a:xfrm>
          <a:prstGeom prst="bentConnector2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131" t="16999" r="40282" b="78002"/>
          <a:stretch/>
        </p:blipFill>
        <p:spPr>
          <a:xfrm>
            <a:off x="1820880" y="914400"/>
            <a:ext cx="3214800" cy="38088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rcRect l="1131" t="12000" r="40282" b="78002"/>
          <a:stretch/>
        </p:blipFill>
        <p:spPr>
          <a:xfrm>
            <a:off x="685800" y="4191120"/>
            <a:ext cx="3214800" cy="76176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782640" y="6705720"/>
            <a:ext cx="2483640" cy="276480"/>
            <a:chOff x="782640" y="6705720"/>
            <a:chExt cx="2483640" cy="276480"/>
          </a:xfrm>
        </p:grpSpPr>
        <p:sp>
          <p:nvSpPr>
            <p:cNvPr id="139" name=""/>
            <p:cNvSpPr/>
            <p:nvPr/>
          </p:nvSpPr>
          <p:spPr>
            <a:xfrm>
              <a:off x="782640" y="67154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7720" y="6705720"/>
              <a:ext cx="2428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CM3-IDE’s start scree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612800" y="6311880"/>
            <a:ext cx="2621160" cy="276480"/>
            <a:chOff x="1612800" y="6311880"/>
            <a:chExt cx="2621160" cy="276480"/>
          </a:xfrm>
        </p:grpSpPr>
        <p:sp>
          <p:nvSpPr>
            <p:cNvPr id="142" name=""/>
            <p:cNvSpPr/>
            <p:nvPr/>
          </p:nvSpPr>
          <p:spPr>
            <a:xfrm>
              <a:off x="1612800" y="63230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16400" y="6311880"/>
              <a:ext cx="2617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package roo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182680" y="5919840"/>
            <a:ext cx="2429640" cy="276480"/>
            <a:chOff x="2182680" y="5919840"/>
            <a:chExt cx="2429640" cy="276480"/>
          </a:xfrm>
        </p:grpSpPr>
        <p:sp>
          <p:nvSpPr>
            <p:cNvPr id="145" name=""/>
            <p:cNvSpPr/>
            <p:nvPr/>
          </p:nvSpPr>
          <p:spPr>
            <a:xfrm>
              <a:off x="2182680" y="593100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218680" y="5919840"/>
              <a:ext cx="23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packag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2787480" y="5527800"/>
            <a:ext cx="2296080" cy="276480"/>
            <a:chOff x="2787480" y="5527800"/>
            <a:chExt cx="2296080" cy="276480"/>
          </a:xfrm>
        </p:grpSpPr>
        <p:sp>
          <p:nvSpPr>
            <p:cNvPr id="148" name=""/>
            <p:cNvSpPr/>
            <p:nvPr/>
          </p:nvSpPr>
          <p:spPr>
            <a:xfrm>
              <a:off x="2787480" y="553752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827080" y="5527800"/>
              <a:ext cx="2256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source directo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3314880" y="5135400"/>
            <a:ext cx="2989440" cy="276480"/>
            <a:chOff x="3314880" y="5135400"/>
            <a:chExt cx="2989440" cy="276480"/>
          </a:xfrm>
        </p:grpSpPr>
        <p:sp>
          <p:nvSpPr>
            <p:cNvPr id="151" name=""/>
            <p:cNvSpPr/>
            <p:nvPr/>
          </p:nvSpPr>
          <p:spPr>
            <a:xfrm>
              <a:off x="3314880" y="5151240"/>
              <a:ext cx="228600" cy="228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331800" y="5135400"/>
              <a:ext cx="297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Garamond"/>
                </a:rPr>
                <a:t>Go to the current module summar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82080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50960" y="4686480"/>
            <a:ext cx="1522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2208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82564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52680" y="4686480"/>
            <a:ext cx="1526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39" idx="0"/>
            <a:endCxn id="153" idx="2"/>
          </p:cNvCxnSpPr>
          <p:nvPr/>
        </p:nvCxnSpPr>
        <p:spPr>
          <a:xfrm flipV="1">
            <a:off x="896400" y="4838400"/>
            <a:ext cx="1080" cy="18770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2" idx="0"/>
            <a:endCxn id="154" idx="2"/>
          </p:cNvCxnSpPr>
          <p:nvPr/>
        </p:nvCxnSpPr>
        <p:spPr>
          <a:xfrm flipV="1">
            <a:off x="1726920" y="4838040"/>
            <a:ext cx="1080" cy="148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45" idx="0"/>
            <a:endCxn id="155" idx="2"/>
          </p:cNvCxnSpPr>
          <p:nvPr/>
        </p:nvCxnSpPr>
        <p:spPr>
          <a:xfrm flipV="1">
            <a:off x="2296800" y="4838400"/>
            <a:ext cx="1080" cy="10929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48" idx="0"/>
            <a:endCxn id="156" idx="2"/>
          </p:cNvCxnSpPr>
          <p:nvPr/>
        </p:nvCxnSpPr>
        <p:spPr>
          <a:xfrm flipV="1">
            <a:off x="2901600" y="4838400"/>
            <a:ext cx="1080" cy="6991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1" idx="0"/>
            <a:endCxn id="157" idx="2"/>
          </p:cNvCxnSpPr>
          <p:nvPr/>
        </p:nvCxnSpPr>
        <p:spPr>
          <a:xfrm flipV="1">
            <a:off x="3428640" y="4838040"/>
            <a:ext cx="1080" cy="3135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8T05:33:34Z</dcterms:created>
  <dc:creator>Randy Coleburn</dc:creator>
  <dc:description/>
  <dc:language>en-US</dc:language>
  <cp:lastModifiedBy>Randy Coleburn</cp:lastModifiedBy>
  <dcterms:modified xsi:type="dcterms:W3CDTF">2008-03-05T17:38:10Z</dcterms:modified>
  <cp:revision>15</cp:revision>
  <dc:subject/>
  <dc:title>Slide 1</dc:title>
</cp:coreProperties>
</file>