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00E5-EB0F-486B-B681-1E1D29E24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CD5D-E05B-47C7-B41C-4A82BF708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D4E9-8E60-449E-9B3B-D6326B52C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876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3600"/>
            <a:ext cx="264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54FB-6F07-4063-933A-2F1944D8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FBB8F-62CD-4240-94EF-F2A34993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3619-E446-4F06-A7E2-FA944B0A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65A9-4936-475A-AFB8-90D1AF173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057-AB7E-4FCC-BBA3-1A9C4785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22F0-1C38-480F-8445-F85862688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30A9-FFB1-4DE5-BDC7-94A16242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360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02F-FDF3-457A-8854-68FD20DD4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8760"/>
            <a:ext cx="40158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9600" cy="21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5D0A-C188-4B04-AC07-8DE436DCD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8760"/>
            <a:ext cx="8229600" cy="45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11B6-3D58-422D-BE48-C608F9A8EF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99360" y="1333440"/>
            <a:ext cx="8859240" cy="4759560"/>
            <a:chOff x="-99360" y="1333440"/>
            <a:chExt cx="8859240" cy="4759560"/>
          </a:xfrm>
        </p:grpSpPr>
        <p:grpSp>
          <p:nvGrpSpPr>
            <p:cNvPr id="42" name=""/>
            <p:cNvGrpSpPr/>
            <p:nvPr/>
          </p:nvGrpSpPr>
          <p:grpSpPr>
            <a:xfrm>
              <a:off x="290160" y="1333440"/>
              <a:ext cx="3094560" cy="1040040"/>
              <a:chOff x="290160" y="1333440"/>
              <a:chExt cx="3094560" cy="1040040"/>
            </a:xfrm>
          </p:grpSpPr>
          <p:sp>
            <p:nvSpPr>
              <p:cNvPr id="43" name=""/>
              <p:cNvSpPr/>
              <p:nvPr/>
            </p:nvSpPr>
            <p:spPr>
              <a:xfrm>
                <a:off x="352440" y="1333440"/>
                <a:ext cx="2971800" cy="762120"/>
              </a:xfrm>
              <a:prstGeom prst="ellipse">
                <a:avLst/>
              </a:prstGeom>
              <a:solidFill>
                <a:srgbClr val="ffcc66">
                  <a:alpha val="9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 txBox="1"/>
              <p:nvPr/>
            </p:nvSpPr>
            <p:spPr>
              <a:xfrm>
                <a:off x="898560" y="1457280"/>
                <a:ext cx="1876320" cy="5526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1" strike="noStrike">
                    <a:ln w="19080">
                      <a:solidFill>
                        <a:srgbClr val="99ccff"/>
                      </a:solidFill>
                      <a:miter/>
                    </a:ln>
                    <a:solidFill>
                      <a:srgbClr val="0066cc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ahoma"/>
                  </a:rPr>
                  <a:t>Catalyst</a:t>
                </a:r>
                <a:endParaRPr b="1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ahoma"/>
                  <a:ea typeface="Tahoma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290160" y="2051280"/>
                <a:ext cx="3094560" cy="32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938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for</a:t>
                </a:r>
                <a:r>
                  <a:rPr b="0" lang="en-US" sz="1500" spc="-1" strike="noStrike">
                    <a:solidFill>
                      <a:srgbClr val="0066cc"/>
                    </a:solidFill>
                    <a:latin typeface="Arial Rounded MT Bold"/>
                  </a:rPr>
                  <a:t>  Critical Mass Modula-3 (cm3)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" name=""/>
            <p:cNvSpPr txBox="1"/>
            <p:nvPr/>
          </p:nvSpPr>
          <p:spPr>
            <a:xfrm>
              <a:off x="4205160" y="1638360"/>
              <a:ext cx="4334040" cy="428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ff9933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Accelerate Your Process !</a:t>
              </a:r>
              <a:endParaRPr b="0" i="1" lang="en-US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9933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7" name=""/>
            <p:cNvSpPr/>
            <p:nvPr/>
          </p:nvSpPr>
          <p:spPr>
            <a:xfrm rot="16536000">
              <a:off x="433440" y="2971440"/>
              <a:ext cx="2666880" cy="2286000"/>
            </a:xfrm>
            <a:custGeom>
              <a:avLst/>
              <a:gdLst>
                <a:gd name="textAreaLeft" fmla="*/ 0 w 2666880"/>
                <a:gd name="textAreaRight" fmla="*/ 2666880 w 2666880"/>
                <a:gd name="textAreaTop" fmla="*/ 0 h 2286000"/>
                <a:gd name="textAreaBottom" fmla="*/ 228636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63" y="11187"/>
                  </a:moveTo>
                  <a:arcTo wR="-9845" hR="-9845" stAng="10664838" swAng="-1632849"/>
                  <a:lnTo>
                    <a:pt x="20203" y="5487"/>
                  </a:lnTo>
                  <a:arcTo wR="10800" hR="10800" stAng="-1768011" swAng="1632849"/>
                  <a:lnTo>
                    <a:pt x="24290" y="10269"/>
                  </a:lnTo>
                  <a:lnTo>
                    <a:pt x="21239" y="13569"/>
                  </a:lnTo>
                  <a:lnTo>
                    <a:pt x="17939" y="10519"/>
                  </a:lnTo>
                  <a:close/>
                </a:path>
              </a:pathLst>
            </a:custGeom>
            <a:solidFill>
              <a:srgbClr val="cc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99360" y="2325960"/>
              <a:ext cx="3985200" cy="3767040"/>
              <a:chOff x="-99360" y="2325960"/>
              <a:chExt cx="3985200" cy="3767040"/>
            </a:xfrm>
          </p:grpSpPr>
          <p:sp>
            <p:nvSpPr>
              <p:cNvPr id="49" name=""/>
              <p:cNvSpPr/>
              <p:nvPr/>
            </p:nvSpPr>
            <p:spPr>
              <a:xfrm>
                <a:off x="2398320" y="4019400"/>
                <a:ext cx="892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rows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1427760" y="5153040"/>
                <a:ext cx="81144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Crea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2161080" y="2781360"/>
                <a:ext cx="54648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Edi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397080" y="4181400"/>
                <a:ext cx="668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Buil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59680" y="2977920"/>
                <a:ext cx="560160" cy="33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 Rounded MT Bold"/>
                  </a:rPr>
                  <a:t>Ru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233360" y="3276720"/>
                <a:ext cx="1171800" cy="1866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>
                <a:off x="1403640" y="3568680"/>
                <a:ext cx="828360" cy="61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6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With</a:t>
                </a:r>
                <a:br>
                  <a:rPr sz="1700"/>
                </a:br>
                <a:r>
                  <a:rPr b="0" lang="en-US" sz="1700" spc="-1" strike="noStrike">
                    <a:solidFill>
                      <a:srgbClr val="0066cc"/>
                    </a:solidFill>
                    <a:latin typeface="Alba Super"/>
                  </a:rPr>
                  <a:t>Power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9235200">
                <a:off x="852120" y="308520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12990600">
                <a:off x="547200" y="323784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33000">
                <a:off x="243000" y="2629080"/>
                <a:ext cx="2666880" cy="22856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682600">
                <a:off x="318600" y="2933280"/>
                <a:ext cx="2667240" cy="2285640"/>
              </a:xfrm>
              <a:custGeom>
                <a:avLst/>
                <a:gdLst>
                  <a:gd name="textAreaLeft" fmla="*/ 0 w 2667240"/>
                  <a:gd name="textAreaRight" fmla="*/ 2667600 w 2667240"/>
                  <a:gd name="textAreaTop" fmla="*/ 0 h 2285640"/>
                  <a:gd name="textAreaBottom" fmla="*/ 2285640 h 2285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63" y="11187"/>
                    </a:moveTo>
                    <a:arcTo wR="-9845" hR="-9845" stAng="10664838" swAng="-1632849"/>
                    <a:lnTo>
                      <a:pt x="20203" y="5487"/>
                    </a:lnTo>
                    <a:arcTo wR="10800" hR="10800" stAng="-1768011" swAng="1632849"/>
                    <a:lnTo>
                      <a:pt x="24290" y="10269"/>
                    </a:lnTo>
                    <a:lnTo>
                      <a:pt x="21239" y="13569"/>
                    </a:lnTo>
                    <a:lnTo>
                      <a:pt x="17939" y="10519"/>
                    </a:lnTo>
                    <a:close/>
                  </a:path>
                </a:pathLst>
              </a:custGeom>
              <a:solidFill>
                <a:srgbClr val="cc0000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295800" y="2436840"/>
              <a:ext cx="5464080" cy="3044880"/>
              <a:chOff x="3295800" y="2436840"/>
              <a:chExt cx="5464080" cy="3044880"/>
            </a:xfrm>
          </p:grpSpPr>
          <p:sp>
            <p:nvSpPr>
              <p:cNvPr id="61" name=""/>
              <p:cNvSpPr/>
              <p:nvPr/>
            </p:nvSpPr>
            <p:spPr>
              <a:xfrm rot="16200000">
                <a:off x="632304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871880" y="2436840"/>
                <a:ext cx="2592720" cy="30448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16200000">
                <a:off x="2816280" y="3044880"/>
                <a:ext cx="3044880" cy="1828800"/>
              </a:xfrm>
              <a:prstGeom prst="can">
                <a:avLst>
                  <a:gd name="adj" fmla="val 11166"/>
                </a:avLst>
              </a:prstGeom>
              <a:gradFill rotWithShape="0">
                <a:gsLst>
                  <a:gs pos="0">
                    <a:srgbClr val="ff9933"/>
                  </a:gs>
                  <a:gs pos="100000">
                    <a:srgbClr val="e070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3429000" y="2436840"/>
                <a:ext cx="192240" cy="3044880"/>
              </a:xfrm>
              <a:prstGeom prst="ellipse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448080" y="2722680"/>
                <a:ext cx="146160" cy="2462040"/>
              </a:xfrm>
              <a:prstGeom prst="ellipse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16200000">
                <a:off x="3067200" y="3844440"/>
                <a:ext cx="685800" cy="228600"/>
              </a:xfrm>
              <a:prstGeom prst="can">
                <a:avLst>
                  <a:gd name="adj" fmla="val 25000"/>
                </a:avLst>
              </a:prstGeom>
              <a:gradFill rotWithShape="0">
                <a:gsLst>
                  <a:gs pos="0">
                    <a:srgbClr val="dddddd"/>
                  </a:gs>
                  <a:gs pos="100000">
                    <a:srgbClr val="919191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713400" y="3668760"/>
                <a:ext cx="72936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◄</a:t>
                </a:r>
                <a:r>
                  <a:rPr b="0" lang="en-US" sz="3200" spc="-1" strike="noStrike">
                    <a:solidFill>
                      <a:srgbClr val="000000"/>
                    </a:solidFill>
                    <a:latin typeface="Arial Black"/>
                  </a:rPr>
                  <a:t>+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"/>
              <p:cNvGrpSpPr/>
              <p:nvPr/>
            </p:nvGrpSpPr>
            <p:grpSpPr>
              <a:xfrm>
                <a:off x="4281480" y="3009960"/>
                <a:ext cx="2773440" cy="571320"/>
                <a:chOff x="4281480" y="3009960"/>
                <a:chExt cx="2773440" cy="5713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4281480" y="3009960"/>
                  <a:ext cx="2773440" cy="5713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ff99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 txBox="1"/>
                <p:nvPr/>
              </p:nvSpPr>
              <p:spPr>
                <a:xfrm>
                  <a:off x="4367160" y="3066840"/>
                  <a:ext cx="2590920" cy="4572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1" strike="noStrike">
                      <a:ln w="9360">
                        <a:solidFill>
                          <a:srgbClr val="ff6600"/>
                        </a:solidFill>
                        <a:miter/>
                      </a:ln>
                      <a:solidFill>
                        <a:srgbClr val="cc0000"/>
                      </a:solidFill>
                      <a:latin typeface="Arial Black"/>
                    </a:rPr>
                    <a:t>MASS</a:t>
                  </a:r>
                  <a:endParaRPr b="0" lang="en-US" sz="1800" spc="1" strike="noStrike">
                    <a:ln w="9360">
                      <a:solidFill>
                        <a:srgbClr val="ff6600"/>
                      </a:solidFill>
                      <a:miter/>
                    </a:ln>
                    <a:solidFill>
                      <a:srgbClr val="cc0000"/>
                    </a:solidFill>
                    <a:latin typeface="Arial Black"/>
                    <a:ea typeface="Arial Black"/>
                  </a:endParaRPr>
                </a:p>
              </p:txBody>
            </p:sp>
            <p:sp>
              <p:nvSpPr>
                <p:cNvPr id="71" name=""/>
                <p:cNvSpPr txBox="1"/>
                <p:nvPr/>
              </p:nvSpPr>
              <p:spPr>
                <a:xfrm>
                  <a:off x="4443480" y="3200400"/>
                  <a:ext cx="2438280" cy="28584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1" strike="noStrike">
                      <a:ln w="9360">
                        <a:solidFill>
                          <a:srgbClr val="0000ff"/>
                        </a:solidFill>
                        <a:miter/>
                      </a:ln>
                      <a:solidFill>
                        <a:srgbClr val="ffffff"/>
                      </a:solidFill>
                      <a:latin typeface="Bookman Old Style"/>
                    </a:rPr>
                    <a:t>c r i t i c a l</a:t>
                  </a:r>
                  <a:endParaRPr b="1" lang="en-US" sz="2400" spc="1" strike="noStrike">
                    <a:ln w="9360">
                      <a:solidFill>
                        <a:srgbClr val="0000ff"/>
                      </a:solidFill>
                      <a:miter/>
                    </a:ln>
                    <a:solidFill>
                      <a:srgbClr val="ffffff"/>
                    </a:solidFill>
                    <a:latin typeface="Bookman Old Style"/>
                    <a:ea typeface="Bookman Old Style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567480" y="3772080"/>
                <a:ext cx="1856880" cy="1485720"/>
                <a:chOff x="6567480" y="3772080"/>
                <a:chExt cx="1856880" cy="1485720"/>
              </a:xfrm>
            </p:grpSpPr>
            <p:sp>
              <p:nvSpPr>
                <p:cNvPr id="73" name=""/>
                <p:cNvSpPr txBox="1"/>
                <p:nvPr/>
              </p:nvSpPr>
              <p:spPr>
                <a:xfrm>
                  <a:off x="6567480" y="3772080"/>
                  <a:ext cx="122544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m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4" name=""/>
                <p:cNvSpPr txBox="1"/>
                <p:nvPr/>
              </p:nvSpPr>
              <p:spPr>
                <a:xfrm>
                  <a:off x="7662600" y="3772080"/>
                  <a:ext cx="761760" cy="148572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7200" spc="1" strike="noStrike">
                      <a:ln w="1908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lba"/>
                    </a:rPr>
                    <a:t>3</a:t>
                  </a:r>
                  <a:endParaRPr b="0" lang="en-US" sz="7200" spc="1" strike="noStrike">
                    <a:ln w="1908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lba"/>
                    <a:ea typeface="Alba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7634160" y="4999320"/>
                  <a:ext cx="228240" cy="25056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7664040" y="4980240"/>
                  <a:ext cx="341280" cy="0"/>
                </a:xfrm>
                <a:prstGeom prst="line">
                  <a:avLst/>
                </a:prstGeom>
                <a:ln w="19080">
                  <a:solidFill>
                    <a:srgbClr val="cc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 txBox="1"/>
                <p:nvPr/>
              </p:nvSpPr>
              <p:spPr>
                <a:xfrm>
                  <a:off x="6567480" y="4875480"/>
                  <a:ext cx="780840" cy="361800"/>
                </a:xfrm>
                <a:prstGeom prst="rect">
                  <a:avLst/>
                </a:prstGeom>
              </p:spPr>
              <p:txBody>
                <a:bodyPr wrap="none" lIns="90000" rIns="90000" tIns="46800" bIns="46800" anchor="t" anchorCtr="1">
                  <a:prstTxWarp prst="textPlain">
                    <a:avLst>
                      <a:gd name="adj" fmla="val 50000"/>
                    </a:avLst>
                  </a:prstTxWarp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1" strike="noStrike">
                      <a:ln w="12600">
                        <a:solidFill>
                          <a:srgbClr val="cc6600"/>
                        </a:solidFill>
                        <a:miter/>
                      </a:ln>
                      <a:solidFill>
                        <a:srgbClr val="ff9933"/>
                      </a:solidFill>
                      <a:effectLst>
                        <a:outerShdw dist="17819" dir="2700000" blurRad="0" rotWithShape="0">
                          <a:srgbClr val="990000"/>
                        </a:outerShdw>
                      </a:effectLst>
                      <a:latin typeface="Arial"/>
                    </a:rPr>
                    <a:t>odula</a:t>
                  </a:r>
                  <a:endParaRPr b="0" lang="en-US" sz="2400" spc="1" strike="noStrike">
                    <a:ln w="12600">
                      <a:solidFill>
                        <a:srgbClr val="cc6600"/>
                      </a:solidFill>
                      <a:miter/>
                    </a:ln>
                    <a:solidFill>
                      <a:srgbClr val="ff9933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Arial"/>
                    <a:ea typeface="Arial"/>
                  </a:endParaRPr>
                </a:p>
              </p:txBody>
            </p:sp>
          </p:grpSp>
          <p:sp>
            <p:nvSpPr>
              <p:cNvPr id="78" name=""/>
              <p:cNvSpPr/>
              <p:nvPr/>
            </p:nvSpPr>
            <p:spPr>
              <a:xfrm>
                <a:off x="3620160" y="4800600"/>
                <a:ext cx="1595160" cy="57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Integrated Development</a:t>
                </a:r>
                <a:br>
                  <a:rPr sz="900"/>
                </a:b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Environment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ahoma"/>
                  </a:rPr>
                  <a:t>Powered by Modula-3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9" name=""/>
          <p:cNvSpPr/>
          <p:nvPr/>
        </p:nvSpPr>
        <p:spPr>
          <a:xfrm>
            <a:off x="76320" y="1066680"/>
            <a:ext cx="8991360" cy="4724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976560" y="2486160"/>
            <a:ext cx="1171800" cy="18666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4031640" y="2792520"/>
            <a:ext cx="1059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M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5600" y="2143080"/>
            <a:ext cx="2133720" cy="1828800"/>
          </a:xfrm>
          <a:custGeom>
            <a:avLst/>
            <a:gdLst>
              <a:gd name="textAreaLeft" fmla="*/ 0 w 2133720"/>
              <a:gd name="textAreaRight" fmla="*/ 2134080 w 213372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3494880" y="2895480"/>
            <a:ext cx="2133720" cy="1828800"/>
          </a:xfrm>
          <a:custGeom>
            <a:avLst/>
            <a:gdLst>
              <a:gd name="textAreaLeft" fmla="*/ -360 w 2133720"/>
              <a:gd name="textAreaRight" fmla="*/ 2133720 w 2133720"/>
              <a:gd name="textAreaTop" fmla="*/ 360 h 1828800"/>
              <a:gd name="textAreaBottom" fmla="*/ 1829520 h 1828800"/>
            </a:gdLst>
            <a:ahLst/>
            <a:rect l="textAreaLeft" t="textAreaTop" r="textAreaRight" b="textAreaBottom"/>
            <a:pathLst>
              <a:path w="21600" h="21600">
                <a:moveTo>
                  <a:pt x="2038" y="10800"/>
                </a:moveTo>
                <a:arcTo wR="-8762" hR="-8762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20581" y="14519"/>
                </a:lnTo>
                <a:lnTo>
                  <a:pt x="16862" y="10800"/>
                </a:lnTo>
                <a:close/>
              </a:path>
            </a:pathLst>
          </a:custGeom>
          <a:solidFill>
            <a:srgbClr val="cc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2T03:41:33Z</dcterms:created>
  <dc:creator>Authorized User</dc:creator>
  <dc:description/>
  <dc:language>en-US</dc:language>
  <cp:lastModifiedBy>Randy Coleburn</cp:lastModifiedBy>
  <dcterms:modified xsi:type="dcterms:W3CDTF">2008-01-24T18:35:22Z</dcterms:modified>
  <cp:revision>16</cp:revision>
  <dc:subject/>
  <dc:title>Slide 1</dc:title>
</cp:coreProperties>
</file>