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BF75-E077-4404-853A-9A9C4F03D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F0A9-6B3A-4CBA-B05D-E28A84879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F0B7-6EE1-4815-A1EB-D0C873F8A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569B-8523-4937-848D-68E6FAAAF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E76A-2C2A-4E7F-BE6E-999C0BB65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BF23-CDD7-4093-9352-EA0E4DACE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E18C-F78E-45FC-97CB-F863CF3F3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4EA4-63CE-4EEC-A38A-21B3A3B8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4A48-141A-46BE-9961-6264FC4D8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9645-7551-4D4A-9713-7F6DE076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E028-FEAC-44FD-9740-FC79C5CAB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8266-B75B-40DE-8EF7-6381088E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B0E5-EA6B-4F07-A6A5-807516AA7A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81120"/>
            <a:ext cx="8991360" cy="3686040"/>
          </a:xfrm>
          <a:prstGeom prst="rect">
            <a:avLst/>
          </a:prstGeom>
          <a:noFill/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-132840" y="1697400"/>
            <a:ext cx="8859240" cy="3767040"/>
            <a:chOff x="-132840" y="1697400"/>
            <a:chExt cx="8859240" cy="3767040"/>
          </a:xfrm>
        </p:grpSpPr>
        <p:sp>
          <p:nvSpPr>
            <p:cNvPr id="43" name=""/>
            <p:cNvSpPr/>
            <p:nvPr/>
          </p:nvSpPr>
          <p:spPr>
            <a:xfrm rot="16536000">
              <a:off x="399960" y="234288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-132840" y="1697400"/>
              <a:ext cx="3985200" cy="3767040"/>
              <a:chOff x="-132840" y="1697400"/>
              <a:chExt cx="3985200" cy="3767040"/>
            </a:xfrm>
          </p:grpSpPr>
          <p:sp>
            <p:nvSpPr>
              <p:cNvPr id="45" name=""/>
              <p:cNvSpPr/>
              <p:nvPr/>
            </p:nvSpPr>
            <p:spPr>
              <a:xfrm>
                <a:off x="2364840" y="339084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394280" y="452448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127600" y="215280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63600" y="355284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26200" y="234936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99880" y="264816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1370160" y="294012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9235200">
                <a:off x="818640" y="245664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12990600">
                <a:off x="513720" y="2609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1333000">
                <a:off x="209520" y="200052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682600">
                <a:off x="285120" y="230472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3262320" y="1808280"/>
              <a:ext cx="5464080" cy="3044880"/>
              <a:chOff x="3262320" y="1808280"/>
              <a:chExt cx="5464080" cy="3044880"/>
            </a:xfrm>
          </p:grpSpPr>
          <p:sp>
            <p:nvSpPr>
              <p:cNvPr id="57" name=""/>
              <p:cNvSpPr/>
              <p:nvPr/>
            </p:nvSpPr>
            <p:spPr>
              <a:xfrm rot="16200000">
                <a:off x="628956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838400" y="180828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6200000">
                <a:off x="278280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395520" y="180828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414600" y="209412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16200000">
                <a:off x="3033720" y="321588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679920" y="304020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" name=""/>
              <p:cNvGrpSpPr/>
              <p:nvPr/>
            </p:nvGrpSpPr>
            <p:grpSpPr>
              <a:xfrm>
                <a:off x="4248000" y="2381400"/>
                <a:ext cx="2773440" cy="571320"/>
                <a:chOff x="4248000" y="2381400"/>
                <a:chExt cx="2773440" cy="5713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4248000" y="238140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 txBox="1"/>
                <p:nvPr/>
              </p:nvSpPr>
              <p:spPr>
                <a:xfrm>
                  <a:off x="4333680" y="243828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67" name=""/>
                <p:cNvSpPr txBox="1"/>
                <p:nvPr/>
              </p:nvSpPr>
              <p:spPr>
                <a:xfrm>
                  <a:off x="4410000" y="257184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6534000" y="3143520"/>
                <a:ext cx="1856880" cy="1485720"/>
                <a:chOff x="6534000" y="3143520"/>
                <a:chExt cx="1856880" cy="1485720"/>
              </a:xfrm>
            </p:grpSpPr>
            <p:sp>
              <p:nvSpPr>
                <p:cNvPr id="69" name=""/>
                <p:cNvSpPr txBox="1"/>
                <p:nvPr/>
              </p:nvSpPr>
              <p:spPr>
                <a:xfrm>
                  <a:off x="6534000" y="314352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7629120" y="314352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600680" y="437076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630560" y="435168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 txBox="1"/>
                <p:nvPr/>
              </p:nvSpPr>
              <p:spPr>
                <a:xfrm>
                  <a:off x="6534000" y="424692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3596760" y="3943440"/>
                <a:ext cx="1594800" cy="83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</a:rPr>
                  <a:t>CM3-ID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I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tegrated </a:t>
                </a: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D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velopment</a:t>
                </a:r>
                <a:br>
                  <a:rPr sz="900"/>
                </a:b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E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"/>
          <p:cNvSpPr/>
          <p:nvPr/>
        </p:nvSpPr>
        <p:spPr>
          <a:xfrm>
            <a:off x="767160" y="5054760"/>
            <a:ext cx="7611480" cy="39672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53966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M3-IDE: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C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itical Mass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M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odula-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3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I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tegrated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D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velopment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6:03Z</dcterms:modified>
  <cp:revision>16</cp:revision>
  <dc:subject/>
  <dc:title>Slide 1</dc:title>
</cp:coreProperties>
</file>