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E216-D99B-43EA-B143-651B916ED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D4C1-5BE1-478C-A583-C00D1A2A2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D8A9-229E-48A9-97F8-3D2BFF2F0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2F8A-9A99-4929-A8E7-374C35BCB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07F9-4DCC-4486-81FF-CE88647AD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D0AA-6ECE-44C7-84F4-19228B9BD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4FFE-75E7-4131-B844-66325BC23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6279-9715-400A-9089-35F5807DF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48CF-0B96-46AC-804B-69F698439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A5B4-CA86-4180-B559-0C3C07798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1B3B-3C7A-4A46-8EA5-E807FB70F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1A3B-02DB-4107-9998-E5A9354CC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75427-22A3-4C4D-91B6-C6067ECD28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99360" y="1333440"/>
            <a:ext cx="8859240" cy="4759560"/>
            <a:chOff x="-99360" y="1333440"/>
            <a:chExt cx="8859240" cy="4759560"/>
          </a:xfrm>
        </p:grpSpPr>
        <p:grpSp>
          <p:nvGrpSpPr>
            <p:cNvPr id="42" name=""/>
            <p:cNvGrpSpPr/>
            <p:nvPr/>
          </p:nvGrpSpPr>
          <p:grpSpPr>
            <a:xfrm>
              <a:off x="290160" y="1333440"/>
              <a:ext cx="3094560" cy="1040040"/>
              <a:chOff x="290160" y="1333440"/>
              <a:chExt cx="3094560" cy="1040040"/>
            </a:xfrm>
          </p:grpSpPr>
          <p:sp>
            <p:nvSpPr>
              <p:cNvPr id="43" name=""/>
              <p:cNvSpPr/>
              <p:nvPr/>
            </p:nvSpPr>
            <p:spPr>
              <a:xfrm>
                <a:off x="352440" y="1333440"/>
                <a:ext cx="2971800" cy="762120"/>
              </a:xfrm>
              <a:prstGeom prst="ellipse">
                <a:avLst/>
              </a:prstGeom>
              <a:solidFill>
                <a:srgbClr val="ffcc66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 txBox="1"/>
              <p:nvPr/>
            </p:nvSpPr>
            <p:spPr>
              <a:xfrm>
                <a:off x="898560" y="1457280"/>
                <a:ext cx="1876320" cy="5526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ahoma"/>
                  </a:rPr>
                  <a:t>Catalyst</a:t>
                </a:r>
                <a:endPara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ahoma"/>
                  <a:ea typeface="Tahoma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290160" y="2051280"/>
                <a:ext cx="309456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for</a:t>
                </a:r>
                <a:r>
                  <a:rPr b="0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  Critical Mass Modula-3 (cm3)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" name=""/>
            <p:cNvSpPr txBox="1"/>
            <p:nvPr/>
          </p:nvSpPr>
          <p:spPr>
            <a:xfrm>
              <a:off x="4205160" y="1638360"/>
              <a:ext cx="4334040" cy="42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9933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Accelerate Your Process !</a:t>
              </a:r>
              <a:endParaRPr b="0" i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6536000">
              <a:off x="433440" y="297144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-99360" y="2325960"/>
              <a:ext cx="3985200" cy="3767040"/>
              <a:chOff x="-99360" y="2325960"/>
              <a:chExt cx="3985200" cy="3767040"/>
            </a:xfrm>
          </p:grpSpPr>
          <p:sp>
            <p:nvSpPr>
              <p:cNvPr id="49" name=""/>
              <p:cNvSpPr/>
              <p:nvPr/>
            </p:nvSpPr>
            <p:spPr>
              <a:xfrm>
                <a:off x="2398320" y="401940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427760" y="515304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161080" y="278136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7080" y="418140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59680" y="297792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233360" y="327672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>
                <a:off x="1403640" y="356868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9235200">
                <a:off x="852120" y="308520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12990600">
                <a:off x="547200" y="323784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33000">
                <a:off x="243000" y="262908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682600">
                <a:off x="318600" y="2933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3295800" y="2436840"/>
              <a:ext cx="5464080" cy="3044880"/>
              <a:chOff x="3295800" y="2436840"/>
              <a:chExt cx="5464080" cy="3044880"/>
            </a:xfrm>
          </p:grpSpPr>
          <p:sp>
            <p:nvSpPr>
              <p:cNvPr id="61" name=""/>
              <p:cNvSpPr/>
              <p:nvPr/>
            </p:nvSpPr>
            <p:spPr>
              <a:xfrm rot="16200000">
                <a:off x="632304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871880" y="243684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16200000">
                <a:off x="281628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429000" y="243684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448080" y="272268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16200000">
                <a:off x="3067200" y="384444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713400" y="366876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" name=""/>
              <p:cNvGrpSpPr/>
              <p:nvPr/>
            </p:nvGrpSpPr>
            <p:grpSpPr>
              <a:xfrm>
                <a:off x="4281480" y="3009960"/>
                <a:ext cx="2773440" cy="571320"/>
                <a:chOff x="4281480" y="3009960"/>
                <a:chExt cx="2773440" cy="57132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4281480" y="300996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4367160" y="306684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71" name=""/>
                <p:cNvSpPr txBox="1"/>
                <p:nvPr/>
              </p:nvSpPr>
              <p:spPr>
                <a:xfrm>
                  <a:off x="4443480" y="320040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6567480" y="3772080"/>
                <a:ext cx="1856880" cy="1485720"/>
                <a:chOff x="6567480" y="3772080"/>
                <a:chExt cx="1856880" cy="1485720"/>
              </a:xfrm>
            </p:grpSpPr>
            <p:sp>
              <p:nvSpPr>
                <p:cNvPr id="73" name=""/>
                <p:cNvSpPr txBox="1"/>
                <p:nvPr/>
              </p:nvSpPr>
              <p:spPr>
                <a:xfrm>
                  <a:off x="6567480" y="377208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4" name=""/>
                <p:cNvSpPr txBox="1"/>
                <p:nvPr/>
              </p:nvSpPr>
              <p:spPr>
                <a:xfrm>
                  <a:off x="7662600" y="377208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7634160" y="499932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7664040" y="498024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 txBox="1"/>
                <p:nvPr/>
              </p:nvSpPr>
              <p:spPr>
                <a:xfrm>
                  <a:off x="6567480" y="487548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8" name=""/>
              <p:cNvSpPr/>
              <p:nvPr/>
            </p:nvSpPr>
            <p:spPr>
              <a:xfrm>
                <a:off x="3620160" y="4800600"/>
                <a:ext cx="1595160" cy="57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Integrated Development</a:t>
                </a:r>
                <a:br>
                  <a:rPr sz="900"/>
                </a:b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" name=""/>
          <p:cNvSpPr/>
          <p:nvPr/>
        </p:nvSpPr>
        <p:spPr>
          <a:xfrm>
            <a:off x="76320" y="1066680"/>
            <a:ext cx="8991360" cy="4724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5:22Z</dcterms:modified>
  <cp:revision>16</cp:revision>
  <dc:subject/>
  <dc:title>Slide 1</dc:title>
</cp:coreProperties>
</file>