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F404E-CB0F-4FA6-8CEE-304611B24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C08B4-4229-4864-ACF1-19EB471A2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E2BA5-0B33-49F9-B609-7E4D7B94F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EBDC9-4F7A-42E1-9703-9B1C6C56D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D1D16-1973-4B83-9137-F99F1F010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45055-500C-46E3-83C2-A4F9F0DB3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B29CD-F5B9-4AEF-88AF-8A8BC1BA4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E878E-6F81-4872-8D38-036EAB600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B8960-DC4C-426E-87AB-AE798E9B4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C9612-D59E-412A-955E-777993937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2D0CF-F8F3-4FF7-AF83-41C8C232A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467DE-101A-4593-A669-0955BAA05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BF17E-722D-4988-BA65-4CC78D3E2A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1231" t="10202" r="4423" b="4481"/>
          <a:stretch/>
        </p:blipFill>
        <p:spPr>
          <a:xfrm>
            <a:off x="61920" y="838080"/>
            <a:ext cx="4738680" cy="70106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876920" y="12430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876920" y="46483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876920" y="495000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876920" y="546084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876920" y="596916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3" idx="2"/>
            <a:endCxn id="48" idx="0"/>
          </p:cNvCxnSpPr>
          <p:nvPr/>
        </p:nvCxnSpPr>
        <p:spPr>
          <a:xfrm flipV="1" rot="10800000">
            <a:off x="775800" y="4762440"/>
            <a:ext cx="4101120" cy="209520"/>
          </a:xfrm>
          <a:prstGeom prst="bentConnector4">
            <a:avLst>
              <a:gd name="adj1" fmla="val 47625"/>
              <a:gd name="adj2" fmla="val -8433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" name=""/>
          <p:cNvSpPr/>
          <p:nvPr/>
        </p:nvSpPr>
        <p:spPr>
          <a:xfrm>
            <a:off x="576360" y="4971960"/>
            <a:ext cx="399960" cy="1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069920" y="4975200"/>
            <a:ext cx="1165320" cy="1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63440" y="5199120"/>
            <a:ext cx="351000" cy="1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" name=""/>
          <p:cNvCxnSpPr>
            <a:stCxn id="44" idx="2"/>
            <a:endCxn id="49" idx="3"/>
          </p:cNvCxnSpPr>
          <p:nvPr/>
        </p:nvCxnSpPr>
        <p:spPr>
          <a:xfrm flipH="1" flipV="1">
            <a:off x="2235240" y="5063400"/>
            <a:ext cx="2642040" cy="1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228600" y="1243080"/>
            <a:ext cx="17161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2" idx="2"/>
            <a:endCxn id="52" idx="3"/>
          </p:cNvCxnSpPr>
          <p:nvPr/>
        </p:nvCxnSpPr>
        <p:spPr>
          <a:xfrm flipH="1" flipV="1">
            <a:off x="1944720" y="1355760"/>
            <a:ext cx="293256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5" idx="2"/>
            <a:endCxn id="50" idx="2"/>
          </p:cNvCxnSpPr>
          <p:nvPr/>
        </p:nvCxnSpPr>
        <p:spPr>
          <a:xfrm rot="10800000">
            <a:off x="338760" y="5385960"/>
            <a:ext cx="4538520" cy="189360"/>
          </a:xfrm>
          <a:prstGeom prst="bentConnector4">
            <a:avLst>
              <a:gd name="adj1" fmla="val 48119"/>
              <a:gd name="adj2" fmla="val -2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5" name=""/>
          <p:cNvSpPr/>
          <p:nvPr/>
        </p:nvSpPr>
        <p:spPr>
          <a:xfrm>
            <a:off x="358920" y="5996160"/>
            <a:ext cx="116496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46" idx="2"/>
            <a:endCxn id="55" idx="3"/>
          </p:cNvCxnSpPr>
          <p:nvPr/>
        </p:nvCxnSpPr>
        <p:spPr>
          <a:xfrm flipH="1">
            <a:off x="1523880" y="6083640"/>
            <a:ext cx="3353400" cy="7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"/>
          <p:cNvSpPr/>
          <p:nvPr/>
        </p:nvSpPr>
        <p:spPr>
          <a:xfrm>
            <a:off x="5004000" y="1233360"/>
            <a:ext cx="163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Quick Access Ic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75560" y="4637160"/>
            <a:ext cx="1755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Delete old build fi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999320" y="4938840"/>
            <a:ext cx="148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Edit the makef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989240" y="5451480"/>
            <a:ext cx="156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Build th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88520" y="5952960"/>
            <a:ext cx="142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List all mod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rcRect l="2199" t="53302" r="22222" b="36490"/>
          <a:stretch/>
        </p:blipFill>
        <p:spPr>
          <a:xfrm>
            <a:off x="1355760" y="4311720"/>
            <a:ext cx="4146480" cy="52056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rcRect l="1387" t="82199" r="2780" b="8003"/>
          <a:stretch/>
        </p:blipFill>
        <p:spPr>
          <a:xfrm>
            <a:off x="800280" y="5715000"/>
            <a:ext cx="525780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752480" y="4724280"/>
            <a:ext cx="15264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File"/>
          <p:cNvSpPr/>
          <p:nvPr/>
        </p:nvSpPr>
        <p:spPr>
          <a:xfrm>
            <a:off x="76320" y="4000680"/>
            <a:ext cx="1828800" cy="114300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Pack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File"/>
          <p:cNvSpPr/>
          <p:nvPr/>
        </p:nvSpPr>
        <p:spPr>
          <a:xfrm>
            <a:off x="2590920" y="2865600"/>
            <a:ext cx="1828800" cy="114300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File"/>
          <p:cNvSpPr/>
          <p:nvPr/>
        </p:nvSpPr>
        <p:spPr>
          <a:xfrm>
            <a:off x="2590920" y="5199120"/>
            <a:ext cx="1828800" cy="114300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erived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NT386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HPPA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9" name=""/>
          <p:cNvCxnSpPr>
            <a:stCxn id="166" idx="6"/>
            <a:endCxn id="167" idx="6"/>
          </p:cNvCxnSpPr>
          <p:nvPr/>
        </p:nvCxnSpPr>
        <p:spPr>
          <a:xfrm flipV="1">
            <a:off x="1904760" y="4007880"/>
            <a:ext cx="1600920" cy="564120"/>
          </a:xfrm>
          <a:prstGeom prst="bent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0" name=""/>
          <p:cNvCxnSpPr>
            <a:stCxn id="165" idx="6"/>
            <a:endCxn id="168" idx="6"/>
          </p:cNvCxnSpPr>
          <p:nvPr/>
        </p:nvCxnSpPr>
        <p:spPr>
          <a:xfrm>
            <a:off x="1904760" y="4800240"/>
            <a:ext cx="1616760" cy="570600"/>
          </a:xfrm>
          <a:prstGeom prst="bent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1" name=""/>
          <p:cNvSpPr/>
          <p:nvPr/>
        </p:nvSpPr>
        <p:spPr>
          <a:xfrm>
            <a:off x="172440" y="521100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package direc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791880" y="2205000"/>
            <a:ext cx="307800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The source subdirectory, “src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Source files and makefile reside 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791520" y="6615720"/>
            <a:ext cx="3318480" cy="6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The derived subdirect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The builder generates system-dependent</a:t>
            </a:r>
            <a:br>
              <a:rPr sz="1200"/>
            </a:b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object files in the “derived” direct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2" idx="1"/>
            <a:endCxn id="167" idx="7"/>
          </p:cNvCxnSpPr>
          <p:nvPr/>
        </p:nvCxnSpPr>
        <p:spPr>
          <a:xfrm flipV="1" rot="10800000">
            <a:off x="3520440" y="2451600"/>
            <a:ext cx="523080" cy="585000"/>
          </a:xfrm>
          <a:prstGeom prst="curved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3" idx="1"/>
            <a:endCxn id="168" idx="7"/>
          </p:cNvCxnSpPr>
          <p:nvPr/>
        </p:nvCxnSpPr>
        <p:spPr>
          <a:xfrm rot="10800000">
            <a:off x="3504600" y="6341400"/>
            <a:ext cx="538920" cy="622800"/>
          </a:xfrm>
          <a:prstGeom prst="curved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314880" y="3808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314880" y="11206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314880" y="18622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314880" y="26035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314880" y="334476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314880" y="408636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314880" y="482760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314880" y="556884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314880" y="631044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314880" y="70516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314880" y="77929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314880" y="85345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878760" y="4418280"/>
            <a:ext cx="574200" cy="307440"/>
          </a:xfrm>
          <a:custGeom>
            <a:avLst/>
            <a:gdLst>
              <a:gd name="textAreaLeft" fmla="*/ 0 w 574200"/>
              <a:gd name="textAreaRight" fmla="*/ 574560 w 574200"/>
              <a:gd name="textAreaTop" fmla="*/ 0 h 307440"/>
              <a:gd name="textAreaBottom" fmla="*/ 307800 h 307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Ste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2509920" y="1828800"/>
            <a:ext cx="1654200" cy="1655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IO Interface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IO.i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724280" y="3724200"/>
            <a:ext cx="1654200" cy="1656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IO module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IO.m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04920" y="3724200"/>
            <a:ext cx="1654200" cy="1656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Hello module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Hello.m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"/>
          <p:cNvCxnSpPr>
            <a:stCxn id="76" idx="0"/>
            <a:endCxn id="75" idx="3"/>
          </p:cNvCxnSpPr>
          <p:nvPr/>
        </p:nvCxnSpPr>
        <p:spPr>
          <a:xfrm flipV="1" rot="16200000">
            <a:off x="4343040" y="2496600"/>
            <a:ext cx="1048320" cy="136908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75" idx="1"/>
            <a:endCxn id="77" idx="0"/>
          </p:cNvCxnSpPr>
          <p:nvPr/>
        </p:nvCxnSpPr>
        <p:spPr>
          <a:xfrm flipV="1" rot="10800000">
            <a:off x="1131120" y="2657160"/>
            <a:ext cx="1359720" cy="104832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0" name=""/>
          <p:cNvSpPr/>
          <p:nvPr/>
        </p:nvSpPr>
        <p:spPr>
          <a:xfrm>
            <a:off x="4132080" y="3048120"/>
            <a:ext cx="96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Garamond"/>
              </a:rPr>
              <a:t>expor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25320" y="3048120"/>
            <a:ext cx="99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Garamond"/>
              </a:rPr>
              <a:t>impor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rcRect l="1499" t="10186" r="4348" b="4628"/>
          <a:stretch/>
        </p:blipFill>
        <p:spPr>
          <a:xfrm>
            <a:off x="228600" y="1295280"/>
            <a:ext cx="4780080" cy="70106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2755800" y="206676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55800" y="263196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102280" y="32338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105520" y="575460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755800" y="79516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871720" y="2057400"/>
            <a:ext cx="149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Rescan pack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828160" y="2620800"/>
            <a:ext cx="187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Create a new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196960" y="3222720"/>
            <a:ext cx="1515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Private pack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28280" y="5745240"/>
            <a:ext cx="1424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Public pack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786040" y="7929720"/>
            <a:ext cx="199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Find a particular en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12840" y="2354400"/>
            <a:ext cx="55080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939960" y="2354400"/>
            <a:ext cx="118872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5" name=""/>
          <p:cNvCxnSpPr>
            <a:stCxn id="83" idx="2"/>
            <a:endCxn id="93" idx="0"/>
          </p:cNvCxnSpPr>
          <p:nvPr/>
        </p:nvCxnSpPr>
        <p:spPr>
          <a:xfrm flipV="1" rot="10800000">
            <a:off x="588240" y="2180160"/>
            <a:ext cx="2167560" cy="17388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84" idx="2"/>
            <a:endCxn id="94" idx="2"/>
          </p:cNvCxnSpPr>
          <p:nvPr/>
        </p:nvCxnSpPr>
        <p:spPr>
          <a:xfrm rot="10800000">
            <a:off x="1534320" y="2529720"/>
            <a:ext cx="1221480" cy="21672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"/>
          <p:cNvSpPr/>
          <p:nvPr/>
        </p:nvSpPr>
        <p:spPr>
          <a:xfrm>
            <a:off x="4800600" y="3048120"/>
            <a:ext cx="228600" cy="609480"/>
          </a:xfrm>
          <a:custGeom>
            <a:avLst/>
            <a:gdLst>
              <a:gd name="textAreaLeft" fmla="*/ 0 w 228600"/>
              <a:gd name="textAreaRight" fmla="*/ 82440 w 228600"/>
              <a:gd name="textAreaTop" fmla="*/ 15840 h 609480"/>
              <a:gd name="textAreaBottom" fmla="*/ 5936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800600" y="3962520"/>
            <a:ext cx="228600" cy="3809880"/>
          </a:xfrm>
          <a:custGeom>
            <a:avLst/>
            <a:gdLst>
              <a:gd name="textAreaLeft" fmla="*/ 0 w 228600"/>
              <a:gd name="textAreaRight" fmla="*/ 82440 w 228600"/>
              <a:gd name="textAreaTop" fmla="*/ 99360 h 3809880"/>
              <a:gd name="textAreaBottom" fmla="*/ 3710520 h 3809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38200" y="7978680"/>
            <a:ext cx="1303200" cy="1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"/>
          <p:cNvCxnSpPr>
            <a:stCxn id="87" idx="2"/>
            <a:endCxn id="99" idx="3"/>
          </p:cNvCxnSpPr>
          <p:nvPr/>
        </p:nvCxnSpPr>
        <p:spPr>
          <a:xfrm flipH="1">
            <a:off x="1841040" y="8066160"/>
            <a:ext cx="91512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rcRect l="1499" t="10139" r="4254" b="47935"/>
          <a:stretch/>
        </p:blipFill>
        <p:spPr>
          <a:xfrm>
            <a:off x="762120" y="1295280"/>
            <a:ext cx="4784760" cy="34466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3513960" y="2313000"/>
            <a:ext cx="187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Create a new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447920" y="2362320"/>
            <a:ext cx="130320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2" idx="1"/>
            <a:endCxn id="103" idx="3"/>
          </p:cNvCxnSpPr>
          <p:nvPr/>
        </p:nvCxnSpPr>
        <p:spPr>
          <a:xfrm flipH="1">
            <a:off x="2750760" y="2450880"/>
            <a:ext cx="90720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rcRect l="1387" t="17887" r="4167" b="7664"/>
          <a:stretch/>
        </p:blipFill>
        <p:spPr>
          <a:xfrm>
            <a:off x="762120" y="2895480"/>
            <a:ext cx="5181480" cy="38862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2590920" y="44467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114800" y="498780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114800" y="56386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676520" y="4473720"/>
            <a:ext cx="39996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806480" y="5013360"/>
            <a:ext cx="116532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1" name=""/>
          <p:cNvCxnSpPr>
            <a:stCxn id="107" idx="2"/>
            <a:endCxn id="110" idx="3"/>
          </p:cNvCxnSpPr>
          <p:nvPr/>
        </p:nvCxnSpPr>
        <p:spPr>
          <a:xfrm flipH="1">
            <a:off x="2971080" y="5101920"/>
            <a:ext cx="114372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2" name=""/>
          <p:cNvSpPr/>
          <p:nvPr/>
        </p:nvSpPr>
        <p:spPr>
          <a:xfrm>
            <a:off x="838080" y="3238560"/>
            <a:ext cx="801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572920" y="4424400"/>
            <a:ext cx="357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Instruct CM3-IDE which package root to 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231440" y="4976640"/>
            <a:ext cx="1600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Name th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12000" y="5614920"/>
            <a:ext cx="174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Assign package ty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06" idx="2"/>
            <a:endCxn id="109" idx="3"/>
          </p:cNvCxnSpPr>
          <p:nvPr/>
        </p:nvCxnSpPr>
        <p:spPr>
          <a:xfrm flipH="1">
            <a:off x="2075760" y="4560480"/>
            <a:ext cx="51516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3200400" y="5410080"/>
            <a:ext cx="152280" cy="685800"/>
          </a:xfrm>
          <a:custGeom>
            <a:avLst/>
            <a:gdLst>
              <a:gd name="textAreaLeft" fmla="*/ 0 w 152280"/>
              <a:gd name="textAreaRight" fmla="*/ 55080 w 15228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"/>
          <p:cNvCxnSpPr>
            <a:stCxn id="108" idx="2"/>
            <a:endCxn id="117" idx="1"/>
          </p:cNvCxnSpPr>
          <p:nvPr/>
        </p:nvCxnSpPr>
        <p:spPr>
          <a:xfrm flipH="1">
            <a:off x="3351960" y="5752800"/>
            <a:ext cx="76284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9" name=""/>
          <p:cNvSpPr/>
          <p:nvPr/>
        </p:nvSpPr>
        <p:spPr>
          <a:xfrm>
            <a:off x="3429000" y="275256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409560" y="2743200"/>
            <a:ext cx="274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Click here to return to start p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"/>
          <p:cNvCxnSpPr>
            <a:stCxn id="119" idx="2"/>
            <a:endCxn id="112" idx="1"/>
          </p:cNvCxnSpPr>
          <p:nvPr/>
        </p:nvCxnSpPr>
        <p:spPr>
          <a:xfrm flipV="1" rot="10800000">
            <a:off x="837360" y="2865960"/>
            <a:ext cx="2591640" cy="486360"/>
          </a:xfrm>
          <a:prstGeom prst="bentConnector3">
            <a:avLst>
              <a:gd name="adj1" fmla="val 108821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122" name="" descr=""/>
          <p:cNvPicPr/>
          <p:nvPr/>
        </p:nvPicPr>
        <p:blipFill>
          <a:blip r:embed="rId2"/>
          <a:srcRect l="15075" t="48025" r="75961" b="48025"/>
          <a:stretch/>
        </p:blipFill>
        <p:spPr>
          <a:xfrm>
            <a:off x="3176640" y="8177040"/>
            <a:ext cx="492120" cy="2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rcRect l="1390" t="26328" r="4228" b="16222"/>
          <a:stretch/>
        </p:blipFill>
        <p:spPr>
          <a:xfrm>
            <a:off x="228600" y="3124080"/>
            <a:ext cx="5178600" cy="20574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3800880" y="4470480"/>
            <a:ext cx="2850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Click here to start your text edi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870280" y="4492800"/>
            <a:ext cx="801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4" idx="1"/>
            <a:endCxn id="125" idx="3"/>
          </p:cNvCxnSpPr>
          <p:nvPr/>
        </p:nvCxnSpPr>
        <p:spPr>
          <a:xfrm flipH="1" flipV="1">
            <a:off x="3671640" y="4606560"/>
            <a:ext cx="38016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321120" y="4433040"/>
            <a:ext cx="621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IO.Put(“This is the stuff I want to print to standard output\n.”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232280" y="3809160"/>
            <a:ext cx="48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parameters for this call (if any) go between the parenthe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027800" y="3351960"/>
            <a:ext cx="146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procedure 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04720" y="2971080"/>
            <a:ext cx="3862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name of the interface containing the proced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5400000">
            <a:off x="329400" y="4241880"/>
            <a:ext cx="304920" cy="152280"/>
          </a:xfrm>
          <a:custGeom>
            <a:avLst/>
            <a:gdLst>
              <a:gd name="textAreaLeft" fmla="*/ 194760 w 304920"/>
              <a:gd name="textAreaRight" fmla="*/ 305280 w 304920"/>
              <a:gd name="textAreaTop" fmla="*/ 3960 h 152280"/>
              <a:gd name="textAreaBottom" fmla="*/ 148320 h 152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5400000">
            <a:off x="628200" y="4184640"/>
            <a:ext cx="304920" cy="266760"/>
          </a:xfrm>
          <a:custGeom>
            <a:avLst/>
            <a:gdLst>
              <a:gd name="textAreaLeft" fmla="*/ 194760 w 304920"/>
              <a:gd name="textAreaRight" fmla="*/ 305280 w 304920"/>
              <a:gd name="textAreaTop" fmla="*/ 6840 h 266760"/>
              <a:gd name="textAreaBottom" fmla="*/ 259920 h 266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5400000">
            <a:off x="3485880" y="1707840"/>
            <a:ext cx="304920" cy="5219640"/>
          </a:xfrm>
          <a:custGeom>
            <a:avLst/>
            <a:gdLst>
              <a:gd name="textAreaLeft" fmla="*/ 194760 w 304920"/>
              <a:gd name="textAreaRight" fmla="*/ 305280 w 304920"/>
              <a:gd name="textAreaTop" fmla="*/ 136080 h 5219640"/>
              <a:gd name="textAreaBottom" fmla="*/ 5083560 h 521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4" name=""/>
          <p:cNvCxnSpPr>
            <a:stCxn id="130" idx="1"/>
            <a:endCxn id="131" idx="1"/>
          </p:cNvCxnSpPr>
          <p:nvPr/>
        </p:nvCxnSpPr>
        <p:spPr>
          <a:xfrm flipV="1" rot="10800000">
            <a:off x="482040" y="3109680"/>
            <a:ext cx="351360" cy="105624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5" name=""/>
          <p:cNvCxnSpPr>
            <a:stCxn id="129" idx="1"/>
            <a:endCxn id="132" idx="1"/>
          </p:cNvCxnSpPr>
          <p:nvPr/>
        </p:nvCxnSpPr>
        <p:spPr>
          <a:xfrm flipV="1" rot="10800000">
            <a:off x="780480" y="3490560"/>
            <a:ext cx="362520" cy="67536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rcRect l="1131" t="16999" r="40282" b="78002"/>
          <a:stretch/>
        </p:blipFill>
        <p:spPr>
          <a:xfrm>
            <a:off x="1820880" y="914400"/>
            <a:ext cx="3214800" cy="38088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rcRect l="1131" t="12000" r="40282" b="78002"/>
          <a:stretch/>
        </p:blipFill>
        <p:spPr>
          <a:xfrm>
            <a:off x="685800" y="4191120"/>
            <a:ext cx="3214800" cy="761760"/>
          </a:xfrm>
          <a:prstGeom prst="rect">
            <a:avLst/>
          </a:prstGeom>
          <a:ln w="0">
            <a:noFill/>
          </a:ln>
        </p:spPr>
      </p:pic>
      <p:grpSp>
        <p:nvGrpSpPr>
          <p:cNvPr id="138" name=""/>
          <p:cNvGrpSpPr/>
          <p:nvPr/>
        </p:nvGrpSpPr>
        <p:grpSpPr>
          <a:xfrm>
            <a:off x="782640" y="6705720"/>
            <a:ext cx="2483640" cy="276480"/>
            <a:chOff x="782640" y="6705720"/>
            <a:chExt cx="2483640" cy="276480"/>
          </a:xfrm>
        </p:grpSpPr>
        <p:sp>
          <p:nvSpPr>
            <p:cNvPr id="139" name=""/>
            <p:cNvSpPr/>
            <p:nvPr/>
          </p:nvSpPr>
          <p:spPr>
            <a:xfrm>
              <a:off x="782640" y="671544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37720" y="6705720"/>
              <a:ext cx="2428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Garamond"/>
                </a:rPr>
                <a:t>Go to CM3-IDE’s start scree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612800" y="6311880"/>
            <a:ext cx="2621160" cy="276480"/>
            <a:chOff x="1612800" y="6311880"/>
            <a:chExt cx="2621160" cy="276480"/>
          </a:xfrm>
        </p:grpSpPr>
        <p:sp>
          <p:nvSpPr>
            <p:cNvPr id="142" name=""/>
            <p:cNvSpPr/>
            <p:nvPr/>
          </p:nvSpPr>
          <p:spPr>
            <a:xfrm>
              <a:off x="1612800" y="632304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616400" y="6311880"/>
              <a:ext cx="2617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Garamond"/>
                </a:rPr>
                <a:t>Go to the current package roo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2182680" y="5919840"/>
            <a:ext cx="2429640" cy="276480"/>
            <a:chOff x="2182680" y="5919840"/>
            <a:chExt cx="2429640" cy="276480"/>
          </a:xfrm>
        </p:grpSpPr>
        <p:sp>
          <p:nvSpPr>
            <p:cNvPr id="145" name=""/>
            <p:cNvSpPr/>
            <p:nvPr/>
          </p:nvSpPr>
          <p:spPr>
            <a:xfrm>
              <a:off x="2182680" y="593100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218680" y="5919840"/>
              <a:ext cx="2393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Garamond"/>
                </a:rPr>
                <a:t>Go to the package summary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2787480" y="5527800"/>
            <a:ext cx="2296080" cy="276480"/>
            <a:chOff x="2787480" y="5527800"/>
            <a:chExt cx="2296080" cy="276480"/>
          </a:xfrm>
        </p:grpSpPr>
        <p:sp>
          <p:nvSpPr>
            <p:cNvPr id="148" name=""/>
            <p:cNvSpPr/>
            <p:nvPr/>
          </p:nvSpPr>
          <p:spPr>
            <a:xfrm>
              <a:off x="2787480" y="553752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827080" y="5527800"/>
              <a:ext cx="225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Garamond"/>
                </a:rPr>
                <a:t>Go to the source directory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3314880" y="5135400"/>
            <a:ext cx="2989440" cy="276480"/>
            <a:chOff x="3314880" y="5135400"/>
            <a:chExt cx="2989440" cy="276480"/>
          </a:xfrm>
        </p:grpSpPr>
        <p:sp>
          <p:nvSpPr>
            <p:cNvPr id="151" name=""/>
            <p:cNvSpPr/>
            <p:nvPr/>
          </p:nvSpPr>
          <p:spPr>
            <a:xfrm>
              <a:off x="3314880" y="515124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331800" y="5135400"/>
              <a:ext cx="297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Garamond"/>
                </a:rPr>
                <a:t>Go to the current module summary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"/>
          <p:cNvSpPr/>
          <p:nvPr/>
        </p:nvSpPr>
        <p:spPr>
          <a:xfrm>
            <a:off x="820800" y="4686480"/>
            <a:ext cx="1522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650960" y="4686480"/>
            <a:ext cx="1522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220840" y="4686480"/>
            <a:ext cx="1526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825640" y="4686480"/>
            <a:ext cx="1526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352680" y="4686480"/>
            <a:ext cx="1526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8" name=""/>
          <p:cNvCxnSpPr>
            <a:stCxn id="139" idx="0"/>
            <a:endCxn id="153" idx="2"/>
          </p:cNvCxnSpPr>
          <p:nvPr/>
        </p:nvCxnSpPr>
        <p:spPr>
          <a:xfrm flipV="1">
            <a:off x="896400" y="4838400"/>
            <a:ext cx="1080" cy="18770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9" name=""/>
          <p:cNvCxnSpPr>
            <a:stCxn id="142" idx="0"/>
            <a:endCxn id="154" idx="2"/>
          </p:cNvCxnSpPr>
          <p:nvPr/>
        </p:nvCxnSpPr>
        <p:spPr>
          <a:xfrm flipV="1">
            <a:off x="1726920" y="4838040"/>
            <a:ext cx="1080" cy="14850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45" idx="0"/>
            <a:endCxn id="155" idx="2"/>
          </p:cNvCxnSpPr>
          <p:nvPr/>
        </p:nvCxnSpPr>
        <p:spPr>
          <a:xfrm flipV="1">
            <a:off x="2296800" y="4838400"/>
            <a:ext cx="1080" cy="1092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48" idx="0"/>
            <a:endCxn id="156" idx="2"/>
          </p:cNvCxnSpPr>
          <p:nvPr/>
        </p:nvCxnSpPr>
        <p:spPr>
          <a:xfrm flipV="1">
            <a:off x="2901600" y="4838400"/>
            <a:ext cx="1080" cy="6991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" name=""/>
          <p:cNvCxnSpPr>
            <a:stCxn id="151" idx="0"/>
            <a:endCxn id="157" idx="2"/>
          </p:cNvCxnSpPr>
          <p:nvPr/>
        </p:nvCxnSpPr>
        <p:spPr>
          <a:xfrm flipV="1">
            <a:off x="3428640" y="4838040"/>
            <a:ext cx="1080" cy="3135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8T05:33:34Z</dcterms:created>
  <dc:creator>Randy Coleburn</dc:creator>
  <dc:description/>
  <dc:language>en-US</dc:language>
  <cp:lastModifiedBy>Randy Coleburn</cp:lastModifiedBy>
  <dcterms:modified xsi:type="dcterms:W3CDTF">2008-03-05T17:38:10Z</dcterms:modified>
  <cp:revision>15</cp:revision>
  <dc:subject/>
  <dc:title>Slide 1</dc:title>
</cp:coreProperties>
</file>