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EBE5-A803-4EA3-8200-D1D0087D9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CA8A-7727-411C-BD4C-5214D39B3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CCC6-A650-4FC9-B6BA-807D368E2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6EFC-1008-48D3-ABE9-2F7368B14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A045-07F8-42E2-8A51-3E62DFE8B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0FAC-28B1-4C3F-982B-2D3A414C0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357E-884E-4D36-B6FA-4F6C144F6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D665-8144-4756-AC6B-27B688422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4717-080E-45B8-A0F5-207B2AFFD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92C2-77F5-41D2-8AAB-D129938C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5324-4EBF-4DD8-A5F2-A05BB487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68D7-AEA1-4B70-BA33-93D6FACE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EB35C-7B0D-4B09-B1DA-61584BC28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231" t="10202" r="4423" b="4481"/>
          <a:stretch/>
        </p:blipFill>
        <p:spPr>
          <a:xfrm>
            <a:off x="61920" y="838080"/>
            <a:ext cx="4738680" cy="7010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76920" y="12430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76920" y="4648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49500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5460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59691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3" idx="2"/>
            <a:endCxn id="48" idx="0"/>
          </p:cNvCxnSpPr>
          <p:nvPr/>
        </p:nvCxnSpPr>
        <p:spPr>
          <a:xfrm flipV="1" rot="10800000">
            <a:off x="775800" y="4762440"/>
            <a:ext cx="4101120" cy="209520"/>
          </a:xfrm>
          <a:prstGeom prst="bentConnector4">
            <a:avLst>
              <a:gd name="adj1" fmla="val 47625"/>
              <a:gd name="adj2" fmla="val -843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576360" y="4971960"/>
            <a:ext cx="3999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9920" y="4975200"/>
            <a:ext cx="116532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5199120"/>
            <a:ext cx="3510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4" idx="2"/>
            <a:endCxn id="49" idx="3"/>
          </p:cNvCxnSpPr>
          <p:nvPr/>
        </p:nvCxnSpPr>
        <p:spPr>
          <a:xfrm flipH="1" flipV="1">
            <a:off x="2235240" y="5063400"/>
            <a:ext cx="2642040" cy="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228600" y="1243080"/>
            <a:ext cx="17161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2" idx="2"/>
            <a:endCxn id="52" idx="3"/>
          </p:cNvCxnSpPr>
          <p:nvPr/>
        </p:nvCxnSpPr>
        <p:spPr>
          <a:xfrm flipH="1" flipV="1">
            <a:off x="1944720" y="1355760"/>
            <a:ext cx="2932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2"/>
            <a:endCxn id="50" idx="2"/>
          </p:cNvCxnSpPr>
          <p:nvPr/>
        </p:nvCxnSpPr>
        <p:spPr>
          <a:xfrm rot="10800000">
            <a:off x="338760" y="5385960"/>
            <a:ext cx="4538520" cy="189360"/>
          </a:xfrm>
          <a:prstGeom prst="bentConnector4">
            <a:avLst>
              <a:gd name="adj1" fmla="val 48119"/>
              <a:gd name="adj2" fmla="val -2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58920" y="5996160"/>
            <a:ext cx="1164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46" idx="2"/>
            <a:endCxn id="55" idx="3"/>
          </p:cNvCxnSpPr>
          <p:nvPr/>
        </p:nvCxnSpPr>
        <p:spPr>
          <a:xfrm flipH="1">
            <a:off x="1523880" y="6083640"/>
            <a:ext cx="3353400" cy="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5004000" y="1233360"/>
            <a:ext cx="163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Quick Access Ic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75560" y="4637160"/>
            <a:ext cx="175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Delete old build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99320" y="49388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Edit the make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89240" y="5451480"/>
            <a:ext cx="156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Build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88520" y="5952960"/>
            <a:ext cx="142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List all mo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2199" t="53302" r="22222" b="36490"/>
          <a:stretch/>
        </p:blipFill>
        <p:spPr>
          <a:xfrm>
            <a:off x="1355760" y="4311720"/>
            <a:ext cx="4146480" cy="520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rcRect l="1387" t="82199" r="2780" b="8003"/>
          <a:stretch/>
        </p:blipFill>
        <p:spPr>
          <a:xfrm>
            <a:off x="800280" y="5715000"/>
            <a:ext cx="52578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52480" y="47242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ile"/>
          <p:cNvSpPr/>
          <p:nvPr/>
        </p:nvSpPr>
        <p:spPr>
          <a:xfrm>
            <a:off x="76320" y="400068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ile"/>
          <p:cNvSpPr/>
          <p:nvPr/>
        </p:nvSpPr>
        <p:spPr>
          <a:xfrm>
            <a:off x="2590920" y="286560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ile"/>
          <p:cNvSpPr/>
          <p:nvPr/>
        </p:nvSpPr>
        <p:spPr>
          <a:xfrm>
            <a:off x="2590920" y="519912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erived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NT386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HPPA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"/>
          <p:cNvCxnSpPr>
            <a:stCxn id="166" idx="6"/>
            <a:endCxn id="167" idx="6"/>
          </p:cNvCxnSpPr>
          <p:nvPr/>
        </p:nvCxnSpPr>
        <p:spPr>
          <a:xfrm flipV="1">
            <a:off x="1904760" y="4007880"/>
            <a:ext cx="1600920" cy="56412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5" idx="6"/>
            <a:endCxn id="168" idx="6"/>
          </p:cNvCxnSpPr>
          <p:nvPr/>
        </p:nvCxnSpPr>
        <p:spPr>
          <a:xfrm>
            <a:off x="1904760" y="4800240"/>
            <a:ext cx="161676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172440" y="521100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ckage direc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91880" y="2205000"/>
            <a:ext cx="3078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source subdirectory, “src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Source files and makefile resid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91520" y="6615720"/>
            <a:ext cx="33184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derived sub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builder generates system-dependent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object files in the “derived” 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2" idx="1"/>
            <a:endCxn id="167" idx="7"/>
          </p:cNvCxnSpPr>
          <p:nvPr/>
        </p:nvCxnSpPr>
        <p:spPr>
          <a:xfrm flipV="1" rot="10800000">
            <a:off x="3520440" y="2451600"/>
            <a:ext cx="523080" cy="585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3" idx="1"/>
            <a:endCxn id="168" idx="7"/>
          </p:cNvCxnSpPr>
          <p:nvPr/>
        </p:nvCxnSpPr>
        <p:spPr>
          <a:xfrm rot="10800000">
            <a:off x="3504600" y="6341400"/>
            <a:ext cx="538920" cy="6228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314880" y="380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14880" y="1120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14880" y="1862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14880" y="2603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14880" y="3344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14880" y="40863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14880" y="482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14880" y="5568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14880" y="63104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14880" y="70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14880" y="7792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14880" y="8534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78760" y="4418280"/>
            <a:ext cx="574200" cy="307440"/>
          </a:xfrm>
          <a:custGeom>
            <a:avLst/>
            <a:gdLst>
              <a:gd name="textAreaLeft" fmla="*/ 0 w 574200"/>
              <a:gd name="textAreaRight" fmla="*/ 574560 w 574200"/>
              <a:gd name="textAreaTop" fmla="*/ 0 h 307440"/>
              <a:gd name="textAreaBottom" fmla="*/ 307800 h 30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09920" y="1828800"/>
            <a:ext cx="1654200" cy="165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Interfac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i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ell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Hell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stCxn id="76" idx="0"/>
            <a:endCxn id="75" idx="3"/>
          </p:cNvCxnSpPr>
          <p:nvPr/>
        </p:nvCxnSpPr>
        <p:spPr>
          <a:xfrm flipV="1" rot="16200000">
            <a:off x="4343040" y="2496600"/>
            <a:ext cx="1048320" cy="136908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75" idx="1"/>
            <a:endCxn id="77" idx="0"/>
          </p:cNvCxnSpPr>
          <p:nvPr/>
        </p:nvCxnSpPr>
        <p:spPr>
          <a:xfrm flipV="1" rot="10800000">
            <a:off x="1131120" y="2657160"/>
            <a:ext cx="1359720" cy="10483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4132080" y="30481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ex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5320" y="30481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im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1499" t="10186" r="4348" b="4628"/>
          <a:stretch/>
        </p:blipFill>
        <p:spPr>
          <a:xfrm>
            <a:off x="228600" y="1295280"/>
            <a:ext cx="4780080" cy="7010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755800" y="2066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55800" y="26319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02280" y="3233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5754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55800" y="79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71720" y="2057400"/>
            <a:ext cx="149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Rescan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28160" y="26208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96960" y="3222720"/>
            <a:ext cx="151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ivate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28280" y="5745240"/>
            <a:ext cx="14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ublic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86040" y="7929720"/>
            <a:ext cx="19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Find a particular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840" y="2354400"/>
            <a:ext cx="5508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39960" y="2354400"/>
            <a:ext cx="11887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>
            <a:stCxn id="83" idx="2"/>
            <a:endCxn id="93" idx="0"/>
          </p:cNvCxnSpPr>
          <p:nvPr/>
        </p:nvCxnSpPr>
        <p:spPr>
          <a:xfrm flipV="1" rot="10800000">
            <a:off x="588240" y="2180160"/>
            <a:ext cx="2167560" cy="1738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84" idx="2"/>
            <a:endCxn id="94" idx="2"/>
          </p:cNvCxnSpPr>
          <p:nvPr/>
        </p:nvCxnSpPr>
        <p:spPr>
          <a:xfrm rot="10800000">
            <a:off x="1534320" y="2529720"/>
            <a:ext cx="1221480" cy="2167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4800600" y="3048120"/>
            <a:ext cx="228600" cy="609480"/>
          </a:xfrm>
          <a:custGeom>
            <a:avLst/>
            <a:gdLst>
              <a:gd name="textAreaLeft" fmla="*/ 0 w 228600"/>
              <a:gd name="textAreaRight" fmla="*/ 82440 w 22860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3962520"/>
            <a:ext cx="228600" cy="3809880"/>
          </a:xfrm>
          <a:custGeom>
            <a:avLst/>
            <a:gdLst>
              <a:gd name="textAreaLeft" fmla="*/ 0 w 228600"/>
              <a:gd name="textAreaRight" fmla="*/ 82440 w 22860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8200" y="7978680"/>
            <a:ext cx="130320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87" idx="2"/>
            <a:endCxn id="99" idx="3"/>
          </p:cNvCxnSpPr>
          <p:nvPr/>
        </p:nvCxnSpPr>
        <p:spPr>
          <a:xfrm flipH="1">
            <a:off x="1841040" y="8066160"/>
            <a:ext cx="915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1499" t="10139" r="4254" b="47935"/>
          <a:stretch/>
        </p:blipFill>
        <p:spPr>
          <a:xfrm>
            <a:off x="762120" y="1295280"/>
            <a:ext cx="4784760" cy="3446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513960" y="23130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2362320"/>
            <a:ext cx="1303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2" idx="1"/>
            <a:endCxn id="103" idx="3"/>
          </p:cNvCxnSpPr>
          <p:nvPr/>
        </p:nvCxnSpPr>
        <p:spPr>
          <a:xfrm flipH="1">
            <a:off x="2750760" y="2450880"/>
            <a:ext cx="907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1387" t="17887" r="4167" b="7664"/>
          <a:stretch/>
        </p:blipFill>
        <p:spPr>
          <a:xfrm>
            <a:off x="762120" y="289548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590920" y="44467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49878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5638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4473720"/>
            <a:ext cx="399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06480" y="5013360"/>
            <a:ext cx="11653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7" idx="2"/>
            <a:endCxn id="110" idx="3"/>
          </p:cNvCxnSpPr>
          <p:nvPr/>
        </p:nvCxnSpPr>
        <p:spPr>
          <a:xfrm flipH="1">
            <a:off x="2971080" y="5101920"/>
            <a:ext cx="1143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838080" y="323856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72920" y="4424400"/>
            <a:ext cx="35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Instruct CM3-IDE which package root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31440" y="4976640"/>
            <a:ext cx="160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12000" y="5614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Assign package 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06" idx="2"/>
            <a:endCxn id="109" idx="3"/>
          </p:cNvCxnSpPr>
          <p:nvPr/>
        </p:nvCxnSpPr>
        <p:spPr>
          <a:xfrm flipH="1">
            <a:off x="2075760" y="4560480"/>
            <a:ext cx="5151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3200400" y="5410080"/>
            <a:ext cx="152280" cy="685800"/>
          </a:xfrm>
          <a:custGeom>
            <a:avLst/>
            <a:gdLst>
              <a:gd name="textAreaLeft" fmla="*/ 0 w 152280"/>
              <a:gd name="textAreaRight" fmla="*/ 5508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08" idx="2"/>
            <a:endCxn id="117" idx="1"/>
          </p:cNvCxnSpPr>
          <p:nvPr/>
        </p:nvCxnSpPr>
        <p:spPr>
          <a:xfrm flipH="1">
            <a:off x="3351960" y="5752800"/>
            <a:ext cx="7628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429000" y="27525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09560" y="2743200"/>
            <a:ext cx="274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return to start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9" idx="2"/>
            <a:endCxn id="112" idx="1"/>
          </p:cNvCxnSpPr>
          <p:nvPr/>
        </p:nvCxnSpPr>
        <p:spPr>
          <a:xfrm flipV="1" rot="10800000">
            <a:off x="837360" y="2865960"/>
            <a:ext cx="2591640" cy="486360"/>
          </a:xfrm>
          <a:prstGeom prst="bentConnector3">
            <a:avLst>
              <a:gd name="adj1" fmla="val 1088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22" name="" descr=""/>
          <p:cNvPicPr/>
          <p:nvPr/>
        </p:nvPicPr>
        <p:blipFill>
          <a:blip r:embed="rId2"/>
          <a:srcRect l="15075" t="48025" r="75961" b="48025"/>
          <a:stretch/>
        </p:blipFill>
        <p:spPr>
          <a:xfrm>
            <a:off x="3176640" y="8177040"/>
            <a:ext cx="492120" cy="2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1390" t="26328" r="4228" b="16222"/>
          <a:stretch/>
        </p:blipFill>
        <p:spPr>
          <a:xfrm>
            <a:off x="228600" y="3124080"/>
            <a:ext cx="5178600" cy="2057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00880" y="4470480"/>
            <a:ext cx="285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start your text ed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70280" y="449280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4" idx="1"/>
            <a:endCxn id="125" idx="3"/>
          </p:cNvCxnSpPr>
          <p:nvPr/>
        </p:nvCxnSpPr>
        <p:spPr>
          <a:xfrm flipH="1" flipV="1">
            <a:off x="3671640" y="4606560"/>
            <a:ext cx="3801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1120" y="4433040"/>
            <a:ext cx="621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O.Put(“This is the stuff I want to print to standard output\n.”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32280" y="3809160"/>
            <a:ext cx="48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rameters for this call (if any) go between the parenth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27800" y="3351960"/>
            <a:ext cx="146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ocedure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4720" y="2971080"/>
            <a:ext cx="386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of the interface containing the proced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329400" y="4241880"/>
            <a:ext cx="304920" cy="152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 h 152280"/>
              <a:gd name="textAreaBottom" fmla="*/ 148320 h 15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628200" y="4184640"/>
            <a:ext cx="304920" cy="266760"/>
          </a:xfrm>
          <a:custGeom>
            <a:avLst/>
            <a:gdLst>
              <a:gd name="textAreaLeft" fmla="*/ 194760 w 304920"/>
              <a:gd name="textAreaRight" fmla="*/ 305280 w 304920"/>
              <a:gd name="textAreaTop" fmla="*/ 6840 h 266760"/>
              <a:gd name="textAreaBottom" fmla="*/ 259920 h 2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3485880" y="1707840"/>
            <a:ext cx="304920" cy="521964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6080 h 5219640"/>
              <a:gd name="textAreaBottom" fmla="*/ 5083560 h 52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0" idx="1"/>
            <a:endCxn id="131" idx="1"/>
          </p:cNvCxnSpPr>
          <p:nvPr/>
        </p:nvCxnSpPr>
        <p:spPr>
          <a:xfrm flipV="1" rot="10800000">
            <a:off x="482040" y="3109680"/>
            <a:ext cx="351360" cy="10562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29" idx="1"/>
            <a:endCxn id="132" idx="1"/>
          </p:cNvCxnSpPr>
          <p:nvPr/>
        </p:nvCxnSpPr>
        <p:spPr>
          <a:xfrm flipV="1" rot="10800000">
            <a:off x="780480" y="3490560"/>
            <a:ext cx="362520" cy="675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1131" t="16999" r="40282" b="78002"/>
          <a:stretch/>
        </p:blipFill>
        <p:spPr>
          <a:xfrm>
            <a:off x="1820880" y="914400"/>
            <a:ext cx="3214800" cy="380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rcRect l="1131" t="12000" r="40282" b="78002"/>
          <a:stretch/>
        </p:blipFill>
        <p:spPr>
          <a:xfrm>
            <a:off x="685800" y="4191120"/>
            <a:ext cx="3214800" cy="76176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782640" y="6705720"/>
            <a:ext cx="2483640" cy="276480"/>
            <a:chOff x="782640" y="6705720"/>
            <a:chExt cx="2483640" cy="276480"/>
          </a:xfrm>
        </p:grpSpPr>
        <p:sp>
          <p:nvSpPr>
            <p:cNvPr id="139" name=""/>
            <p:cNvSpPr/>
            <p:nvPr/>
          </p:nvSpPr>
          <p:spPr>
            <a:xfrm>
              <a:off x="782640" y="67154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7720" y="6705720"/>
              <a:ext cx="242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CM3-IDE’s start scree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612800" y="6311880"/>
            <a:ext cx="2621160" cy="276480"/>
            <a:chOff x="1612800" y="6311880"/>
            <a:chExt cx="2621160" cy="276480"/>
          </a:xfrm>
        </p:grpSpPr>
        <p:sp>
          <p:nvSpPr>
            <p:cNvPr id="142" name=""/>
            <p:cNvSpPr/>
            <p:nvPr/>
          </p:nvSpPr>
          <p:spPr>
            <a:xfrm>
              <a:off x="1612800" y="63230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16400" y="6311880"/>
              <a:ext cx="261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package roo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182680" y="5919840"/>
            <a:ext cx="2429640" cy="276480"/>
            <a:chOff x="2182680" y="5919840"/>
            <a:chExt cx="2429640" cy="276480"/>
          </a:xfrm>
        </p:grpSpPr>
        <p:sp>
          <p:nvSpPr>
            <p:cNvPr id="145" name=""/>
            <p:cNvSpPr/>
            <p:nvPr/>
          </p:nvSpPr>
          <p:spPr>
            <a:xfrm>
              <a:off x="2182680" y="59310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18680" y="5919840"/>
              <a:ext cx="239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packag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787480" y="5527800"/>
            <a:ext cx="2296080" cy="276480"/>
            <a:chOff x="2787480" y="5527800"/>
            <a:chExt cx="2296080" cy="276480"/>
          </a:xfrm>
        </p:grpSpPr>
        <p:sp>
          <p:nvSpPr>
            <p:cNvPr id="148" name=""/>
            <p:cNvSpPr/>
            <p:nvPr/>
          </p:nvSpPr>
          <p:spPr>
            <a:xfrm>
              <a:off x="2787480" y="55375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27080" y="5527800"/>
              <a:ext cx="225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source directo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314880" y="5135400"/>
            <a:ext cx="2989440" cy="276480"/>
            <a:chOff x="3314880" y="5135400"/>
            <a:chExt cx="2989440" cy="276480"/>
          </a:xfrm>
        </p:grpSpPr>
        <p:sp>
          <p:nvSpPr>
            <p:cNvPr id="151" name=""/>
            <p:cNvSpPr/>
            <p:nvPr/>
          </p:nvSpPr>
          <p:spPr>
            <a:xfrm>
              <a:off x="3314880" y="51512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31800" y="5135400"/>
              <a:ext cx="297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modul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82080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096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208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256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39" idx="0"/>
            <a:endCxn id="153" idx="2"/>
          </p:cNvCxnSpPr>
          <p:nvPr/>
        </p:nvCxnSpPr>
        <p:spPr>
          <a:xfrm flipV="1">
            <a:off x="896400" y="4838400"/>
            <a:ext cx="1080" cy="1877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42" idx="0"/>
            <a:endCxn id="154" idx="2"/>
          </p:cNvCxnSpPr>
          <p:nvPr/>
        </p:nvCxnSpPr>
        <p:spPr>
          <a:xfrm flipV="1">
            <a:off x="1726920" y="4838040"/>
            <a:ext cx="1080" cy="1485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45" idx="0"/>
            <a:endCxn id="155" idx="2"/>
          </p:cNvCxnSpPr>
          <p:nvPr/>
        </p:nvCxnSpPr>
        <p:spPr>
          <a:xfrm flipV="1">
            <a:off x="2296800" y="4838400"/>
            <a:ext cx="1080" cy="1092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48" idx="0"/>
            <a:endCxn id="156" idx="2"/>
          </p:cNvCxnSpPr>
          <p:nvPr/>
        </p:nvCxnSpPr>
        <p:spPr>
          <a:xfrm flipV="1">
            <a:off x="2901600" y="4838400"/>
            <a:ext cx="1080" cy="699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1" idx="0"/>
            <a:endCxn id="157" idx="2"/>
          </p:cNvCxnSpPr>
          <p:nvPr/>
        </p:nvCxnSpPr>
        <p:spPr>
          <a:xfrm flipV="1">
            <a:off x="3428640" y="4838040"/>
            <a:ext cx="1080" cy="313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05:33:34Z</dcterms:created>
  <dc:creator>Randy Coleburn</dc:creator>
  <dc:description/>
  <dc:language>en-US</dc:language>
  <cp:lastModifiedBy>Randy Coleburn</cp:lastModifiedBy>
  <dcterms:modified xsi:type="dcterms:W3CDTF">2008-03-05T17:38:10Z</dcterms:modified>
  <cp:revision>15</cp:revision>
  <dc:subject/>
  <dc:title>Slide 1</dc:title>
</cp:coreProperties>
</file>